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0" y="0"/>
            <a:ext cx="3036960" cy="463680"/>
          </a:xfrm>
          <a:prstGeom prst="rect">
            <a:avLst/>
          </a:prstGeom>
          <a:noFill/>
          <a:ln w="0">
            <a:noFill/>
          </a:ln>
        </p:spPr>
        <p:txBody>
          <a:bodyPr lIns="91080" rIns="91080" tIns="45360" bIns="45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971880" y="0"/>
            <a:ext cx="3036960" cy="46368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81160" y="696960"/>
            <a:ext cx="4649760" cy="3487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701640" y="4416120"/>
            <a:ext cx="560880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8831160"/>
            <a:ext cx="3036960" cy="46368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971880" y="8831160"/>
            <a:ext cx="3036960" cy="463680"/>
          </a:xfrm>
          <a:prstGeom prst="rect">
            <a:avLst/>
          </a:prstGeom>
          <a:noFill/>
          <a:ln w="0">
            <a:noFill/>
          </a:ln>
        </p:spPr>
        <p:txBody>
          <a:bodyPr lIns="91080" rIns="9108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150E-0297-48EB-8DC8-B03B47D0BD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9760" cy="3487680"/>
          </a:xfrm>
          <a:prstGeom prst="rect">
            <a:avLst/>
          </a:prstGeom>
          <a:ln w="0">
            <a:noFill/>
          </a:ln>
        </p:spPr>
      </p:sp>
      <p:sp>
        <p:nvSpPr>
          <p:cNvPr id="35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35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0B56-9876-4E77-9656-43FAFF54CD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7680"/>
          </a:xfrm>
          <a:prstGeom prst="rect">
            <a:avLst/>
          </a:prstGeom>
          <a:ln w="0">
            <a:noFill/>
          </a:ln>
        </p:spPr>
      </p:sp>
      <p:sp>
        <p:nvSpPr>
          <p:cNvPr id="37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37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744B-654F-4018-81EE-DD9FB1173C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9760" cy="3487680"/>
          </a:xfrm>
          <a:prstGeom prst="rect">
            <a:avLst/>
          </a:prstGeom>
          <a:ln w="0">
            <a:noFill/>
          </a:ln>
        </p:spPr>
      </p:sp>
      <p:sp>
        <p:nvSpPr>
          <p:cNvPr id="37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38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D382-FFD8-43AD-BC95-425196F443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7680"/>
          </a:xfrm>
          <a:prstGeom prst="rect">
            <a:avLst/>
          </a:prstGeom>
          <a:ln w="0">
            <a:noFill/>
          </a:ln>
        </p:spPr>
      </p:sp>
      <p:sp>
        <p:nvSpPr>
          <p:cNvPr id="38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38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6F75-5253-408E-9429-DF44AF9127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9760" cy="3487680"/>
          </a:xfrm>
          <a:prstGeom prst="rect">
            <a:avLst/>
          </a:prstGeom>
          <a:ln w="0">
            <a:noFill/>
          </a:ln>
        </p:spPr>
      </p:sp>
      <p:sp>
        <p:nvSpPr>
          <p:cNvPr id="38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39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4B28-F8FE-4895-A9FE-D5C5F837C0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9760" cy="3487680"/>
          </a:xfrm>
          <a:prstGeom prst="rect">
            <a:avLst/>
          </a:prstGeom>
          <a:ln w="0">
            <a:noFill/>
          </a:ln>
        </p:spPr>
      </p:sp>
      <p:sp>
        <p:nvSpPr>
          <p:cNvPr id="39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39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B1BC-DE4D-4A00-8B1F-4843C982D7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7680"/>
          </a:xfrm>
          <a:prstGeom prst="rect">
            <a:avLst/>
          </a:prstGeom>
          <a:ln w="0">
            <a:noFill/>
          </a:ln>
        </p:spPr>
      </p:sp>
      <p:sp>
        <p:nvSpPr>
          <p:cNvPr id="39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0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8582-1C00-49E1-AA5A-AE19FEE517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96960"/>
            <a:ext cx="4649760" cy="3487680"/>
          </a:xfrm>
          <a:prstGeom prst="rect">
            <a:avLst/>
          </a:prstGeom>
          <a:ln w="0">
            <a:noFill/>
          </a:ln>
        </p:spPr>
      </p:sp>
      <p:sp>
        <p:nvSpPr>
          <p:cNvPr id="40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0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009B-3EC4-4026-9E4F-10E6FAC777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9760" cy="3487680"/>
          </a:xfrm>
          <a:prstGeom prst="rect">
            <a:avLst/>
          </a:prstGeom>
          <a:ln w="0">
            <a:noFill/>
          </a:ln>
        </p:spPr>
      </p:sp>
      <p:sp>
        <p:nvSpPr>
          <p:cNvPr id="40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1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E84F-6D8A-4547-BE73-1491274826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7680"/>
          </a:xfrm>
          <a:prstGeom prst="rect">
            <a:avLst/>
          </a:prstGeom>
          <a:ln w="0">
            <a:noFill/>
          </a:ln>
        </p:spPr>
      </p:sp>
      <p:sp>
        <p:nvSpPr>
          <p:cNvPr id="41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1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2F2B-FB74-4DB1-AEC9-6B482325BB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1160" y="696960"/>
            <a:ext cx="4649760" cy="3487680"/>
          </a:xfrm>
          <a:prstGeom prst="rect">
            <a:avLst/>
          </a:prstGeom>
          <a:ln w="0">
            <a:noFill/>
          </a:ln>
        </p:spPr>
      </p:sp>
      <p:sp>
        <p:nvSpPr>
          <p:cNvPr id="41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2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7DE1-B9D9-459C-AA1C-C9351DD60D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7680"/>
          </a:xfrm>
          <a:prstGeom prst="rect">
            <a:avLst/>
          </a:prstGeom>
          <a:ln w="0">
            <a:noFill/>
          </a:ln>
        </p:spPr>
      </p:sp>
      <p:sp>
        <p:nvSpPr>
          <p:cNvPr id="35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36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16F2-F196-47A0-B4EB-5A017F20FB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9760" cy="3487680"/>
          </a:xfrm>
          <a:prstGeom prst="rect">
            <a:avLst/>
          </a:prstGeom>
          <a:ln w="0">
            <a:noFill/>
          </a:ln>
        </p:spPr>
      </p:sp>
      <p:sp>
        <p:nvSpPr>
          <p:cNvPr id="42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2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F288-6988-42AC-B91B-14896652A7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7680"/>
          </a:xfrm>
          <a:prstGeom prst="rect">
            <a:avLst/>
          </a:prstGeom>
          <a:ln w="0">
            <a:noFill/>
          </a:ln>
        </p:spPr>
      </p:sp>
      <p:sp>
        <p:nvSpPr>
          <p:cNvPr id="42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3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C20C-5E7B-4709-8A34-771E4CA6BF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1160" y="696960"/>
            <a:ext cx="4649760" cy="3487680"/>
          </a:xfrm>
          <a:prstGeom prst="rect">
            <a:avLst/>
          </a:prstGeom>
          <a:ln w="0">
            <a:noFill/>
          </a:ln>
        </p:spPr>
      </p:sp>
      <p:sp>
        <p:nvSpPr>
          <p:cNvPr id="43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3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0543-B0EC-423F-90F2-EA142CE28B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9760" cy="3487680"/>
          </a:xfrm>
          <a:prstGeom prst="rect">
            <a:avLst/>
          </a:prstGeom>
          <a:ln w="0">
            <a:noFill/>
          </a:ln>
        </p:spPr>
      </p:sp>
      <p:sp>
        <p:nvSpPr>
          <p:cNvPr id="43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4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530E-05D1-45D5-B4F6-44AA9C2CD4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7680"/>
          </a:xfrm>
          <a:prstGeom prst="rect">
            <a:avLst/>
          </a:prstGeom>
          <a:ln w="0">
            <a:noFill/>
          </a:ln>
        </p:spPr>
      </p:sp>
      <p:sp>
        <p:nvSpPr>
          <p:cNvPr id="44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4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FABA-B3F8-45EC-8672-F8D9664A30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1160" y="696960"/>
            <a:ext cx="4649760" cy="3487680"/>
          </a:xfrm>
          <a:prstGeom prst="rect">
            <a:avLst/>
          </a:prstGeom>
          <a:ln w="0">
            <a:noFill/>
          </a:ln>
        </p:spPr>
      </p:sp>
      <p:sp>
        <p:nvSpPr>
          <p:cNvPr id="44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5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7AB9-AC07-4309-93B6-FAF36D918E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9760" cy="3487680"/>
          </a:xfrm>
          <a:prstGeom prst="rect">
            <a:avLst/>
          </a:prstGeom>
          <a:ln w="0">
            <a:noFill/>
          </a:ln>
        </p:spPr>
      </p:sp>
      <p:sp>
        <p:nvSpPr>
          <p:cNvPr id="45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5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0163-2B38-4F2C-8789-B5752A1FD1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7680"/>
          </a:xfrm>
          <a:prstGeom prst="rect">
            <a:avLst/>
          </a:prstGeom>
          <a:ln w="0">
            <a:noFill/>
          </a:ln>
        </p:spPr>
      </p:sp>
      <p:sp>
        <p:nvSpPr>
          <p:cNvPr id="45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6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B2AD-2397-4C88-8AD7-38F33BF1BA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6960"/>
            <a:ext cx="4649760" cy="3487680"/>
          </a:xfrm>
          <a:prstGeom prst="rect">
            <a:avLst/>
          </a:prstGeom>
          <a:ln w="0">
            <a:noFill/>
          </a:ln>
        </p:spPr>
      </p:sp>
      <p:sp>
        <p:nvSpPr>
          <p:cNvPr id="46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6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FDD2-A69D-44E3-938A-083E4F8D98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9760" cy="3487680"/>
          </a:xfrm>
          <a:prstGeom prst="rect">
            <a:avLst/>
          </a:prstGeom>
          <a:ln w="0">
            <a:noFill/>
          </a:ln>
        </p:spPr>
      </p:sp>
      <p:sp>
        <p:nvSpPr>
          <p:cNvPr id="46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7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DD12-BDEB-4805-9E62-4EEE8242DE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7680"/>
          </a:xfrm>
          <a:prstGeom prst="rect">
            <a:avLst/>
          </a:prstGeom>
          <a:ln w="0">
            <a:noFill/>
          </a:ln>
        </p:spPr>
      </p:sp>
      <p:sp>
        <p:nvSpPr>
          <p:cNvPr id="47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7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CAA2-CC1D-49F2-A9A5-8AE094C8A4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9760" cy="3487680"/>
          </a:xfrm>
          <a:prstGeom prst="rect">
            <a:avLst/>
          </a:prstGeom>
          <a:ln w="0">
            <a:noFill/>
          </a:ln>
        </p:spPr>
      </p:sp>
      <p:sp>
        <p:nvSpPr>
          <p:cNvPr id="47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8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BFA5-5E40-43E5-8F85-5A0F4E47D3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9760" cy="3487680"/>
          </a:xfrm>
          <a:prstGeom prst="rect">
            <a:avLst/>
          </a:prstGeom>
          <a:ln w="0">
            <a:noFill/>
          </a:ln>
        </p:spPr>
      </p:sp>
      <p:sp>
        <p:nvSpPr>
          <p:cNvPr id="48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8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9FA4-697A-49FE-BFEE-82A0BFB501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9760" cy="3487680"/>
          </a:xfrm>
          <a:prstGeom prst="rect">
            <a:avLst/>
          </a:prstGeom>
          <a:ln w="0">
            <a:noFill/>
          </a:ln>
        </p:spPr>
      </p:sp>
      <p:sp>
        <p:nvSpPr>
          <p:cNvPr id="48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9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AE40-2269-4D84-9616-04A98442EE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1160" y="696960"/>
            <a:ext cx="4649760" cy="3487680"/>
          </a:xfrm>
          <a:prstGeom prst="rect">
            <a:avLst/>
          </a:prstGeom>
          <a:ln w="0">
            <a:noFill/>
          </a:ln>
        </p:spPr>
      </p:sp>
      <p:sp>
        <p:nvSpPr>
          <p:cNvPr id="49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49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3B75-441D-4C80-973A-A2E5F879C2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1160" y="696960"/>
            <a:ext cx="4649760" cy="3487680"/>
          </a:xfrm>
          <a:prstGeom prst="rect">
            <a:avLst/>
          </a:prstGeom>
          <a:ln w="0">
            <a:noFill/>
          </a:ln>
        </p:spPr>
      </p:sp>
      <p:sp>
        <p:nvSpPr>
          <p:cNvPr id="49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0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8A9A-5DAB-4AA0-96D4-BAD3B0F931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9760" cy="3487680"/>
          </a:xfrm>
          <a:prstGeom prst="rect">
            <a:avLst/>
          </a:prstGeom>
          <a:ln w="0">
            <a:noFill/>
          </a:ln>
        </p:spPr>
      </p:sp>
      <p:sp>
        <p:nvSpPr>
          <p:cNvPr id="50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0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D05E-5F75-45B2-A599-38B144BAFA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9760" cy="3487680"/>
          </a:xfrm>
          <a:prstGeom prst="rect">
            <a:avLst/>
          </a:prstGeom>
          <a:ln w="0">
            <a:noFill/>
          </a:ln>
        </p:spPr>
      </p:sp>
      <p:sp>
        <p:nvSpPr>
          <p:cNvPr id="50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1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5A04-F3C0-4F3D-8FA8-254BA5791F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9760" cy="3487680"/>
          </a:xfrm>
          <a:prstGeom prst="rect">
            <a:avLst/>
          </a:prstGeom>
          <a:ln w="0">
            <a:noFill/>
          </a:ln>
        </p:spPr>
      </p:sp>
      <p:sp>
        <p:nvSpPr>
          <p:cNvPr id="51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1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7C17-9222-4A08-BF92-DFE6A698B2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9760" cy="3487680"/>
          </a:xfrm>
          <a:prstGeom prst="rect">
            <a:avLst/>
          </a:prstGeom>
          <a:ln w="0">
            <a:noFill/>
          </a:ln>
        </p:spPr>
      </p:sp>
      <p:sp>
        <p:nvSpPr>
          <p:cNvPr id="51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2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3B2C-B597-4D55-87C0-4E994D3911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1160" y="696960"/>
            <a:ext cx="4649760" cy="3487680"/>
          </a:xfrm>
          <a:prstGeom prst="rect">
            <a:avLst/>
          </a:prstGeom>
          <a:ln w="0">
            <a:noFill/>
          </a:ln>
        </p:spPr>
      </p:sp>
      <p:sp>
        <p:nvSpPr>
          <p:cNvPr id="52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2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4E69-1F64-4F3A-8648-FDCD0CEA3D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9760" cy="3487680"/>
          </a:xfrm>
          <a:prstGeom prst="rect">
            <a:avLst/>
          </a:prstGeom>
          <a:ln w="0">
            <a:noFill/>
          </a:ln>
        </p:spPr>
      </p:sp>
      <p:sp>
        <p:nvSpPr>
          <p:cNvPr id="52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3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0BF5-BC8D-4AE8-A9CB-23FADA46B9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1160" y="696960"/>
            <a:ext cx="4649760" cy="3487680"/>
          </a:xfrm>
          <a:prstGeom prst="rect">
            <a:avLst/>
          </a:prstGeom>
          <a:ln w="0">
            <a:noFill/>
          </a:ln>
        </p:spPr>
      </p:sp>
      <p:sp>
        <p:nvSpPr>
          <p:cNvPr id="53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3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17B8-1D82-477B-AB0E-A63458DC86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1160" y="696960"/>
            <a:ext cx="4649760" cy="3487680"/>
          </a:xfrm>
          <a:prstGeom prst="rect">
            <a:avLst/>
          </a:prstGeom>
          <a:ln w="0">
            <a:noFill/>
          </a:ln>
        </p:spPr>
      </p:sp>
      <p:sp>
        <p:nvSpPr>
          <p:cNvPr id="53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4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F4A7-4C0C-426E-A43C-1585F87474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1160" y="696960"/>
            <a:ext cx="4649760" cy="3487680"/>
          </a:xfrm>
          <a:prstGeom prst="rect">
            <a:avLst/>
          </a:prstGeom>
          <a:ln w="0">
            <a:noFill/>
          </a:ln>
        </p:spPr>
      </p:sp>
      <p:sp>
        <p:nvSpPr>
          <p:cNvPr id="54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4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281A-88FF-4F40-9005-AFD6FFE5D5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1160" y="696960"/>
            <a:ext cx="4649760" cy="3487680"/>
          </a:xfrm>
          <a:prstGeom prst="rect">
            <a:avLst/>
          </a:prstGeom>
          <a:ln w="0">
            <a:noFill/>
          </a:ln>
        </p:spPr>
      </p:sp>
      <p:sp>
        <p:nvSpPr>
          <p:cNvPr id="54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5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E050-42B1-4BA6-8716-D9E9E5920D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1160" y="696960"/>
            <a:ext cx="4649760" cy="3487680"/>
          </a:xfrm>
          <a:prstGeom prst="rect">
            <a:avLst/>
          </a:prstGeom>
          <a:ln w="0">
            <a:noFill/>
          </a:ln>
        </p:spPr>
      </p:sp>
      <p:sp>
        <p:nvSpPr>
          <p:cNvPr id="55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5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27EF-AAAB-4E14-95A7-27356F7B7E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9760" cy="3487680"/>
          </a:xfrm>
          <a:prstGeom prst="rect">
            <a:avLst/>
          </a:prstGeom>
          <a:ln w="0">
            <a:noFill/>
          </a:ln>
        </p:spPr>
      </p:sp>
      <p:sp>
        <p:nvSpPr>
          <p:cNvPr id="55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6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B822-89CF-4508-BBDF-A21C4B574A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1160" y="696960"/>
            <a:ext cx="4649760" cy="3487680"/>
          </a:xfrm>
          <a:prstGeom prst="rect">
            <a:avLst/>
          </a:prstGeom>
          <a:ln w="0">
            <a:noFill/>
          </a:ln>
        </p:spPr>
      </p:sp>
      <p:sp>
        <p:nvSpPr>
          <p:cNvPr id="56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6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EA2A-DCA7-4590-B571-06BDDD8B13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1160" y="696960"/>
            <a:ext cx="4649760" cy="3487680"/>
          </a:xfrm>
          <a:prstGeom prst="rect">
            <a:avLst/>
          </a:prstGeom>
          <a:ln w="0">
            <a:noFill/>
          </a:ln>
        </p:spPr>
      </p:sp>
      <p:sp>
        <p:nvSpPr>
          <p:cNvPr id="56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7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DABC-9201-4F97-ADBC-1A54EA2561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1160" y="696960"/>
            <a:ext cx="4649760" cy="3487680"/>
          </a:xfrm>
          <a:prstGeom prst="rect">
            <a:avLst/>
          </a:prstGeom>
          <a:ln w="0">
            <a:noFill/>
          </a:ln>
        </p:spPr>
      </p:sp>
      <p:sp>
        <p:nvSpPr>
          <p:cNvPr id="57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7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86B1-E56E-4417-9F0E-E06FC81F46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9760" cy="3487680"/>
          </a:xfrm>
          <a:prstGeom prst="rect">
            <a:avLst/>
          </a:prstGeom>
          <a:ln w="0">
            <a:noFill/>
          </a:ln>
        </p:spPr>
      </p:sp>
      <p:sp>
        <p:nvSpPr>
          <p:cNvPr id="57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8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63BD-4DF4-43AA-AC67-C7F4C40869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1160" y="696960"/>
            <a:ext cx="4649760" cy="3487680"/>
          </a:xfrm>
          <a:prstGeom prst="rect">
            <a:avLst/>
          </a:prstGeom>
          <a:ln w="0">
            <a:noFill/>
          </a:ln>
        </p:spPr>
      </p:sp>
      <p:sp>
        <p:nvSpPr>
          <p:cNvPr id="58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8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4208-B209-4E0A-8B5F-7093FD03B8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9760" cy="3487680"/>
          </a:xfrm>
          <a:prstGeom prst="rect">
            <a:avLst/>
          </a:prstGeom>
          <a:ln w="0">
            <a:noFill/>
          </a:ln>
        </p:spPr>
      </p:sp>
      <p:sp>
        <p:nvSpPr>
          <p:cNvPr id="58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9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C7CF-8F1A-454B-8257-32EBED82F5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1160" y="696960"/>
            <a:ext cx="4649760" cy="3487680"/>
          </a:xfrm>
          <a:prstGeom prst="rect">
            <a:avLst/>
          </a:prstGeom>
          <a:ln w="0">
            <a:noFill/>
          </a:ln>
        </p:spPr>
      </p:sp>
      <p:sp>
        <p:nvSpPr>
          <p:cNvPr id="59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59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A213-0C79-41C8-9ED2-9EF5137030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9760" cy="3487680"/>
          </a:xfrm>
          <a:prstGeom prst="rect">
            <a:avLst/>
          </a:prstGeom>
          <a:ln w="0">
            <a:noFill/>
          </a:ln>
        </p:spPr>
      </p:sp>
      <p:sp>
        <p:nvSpPr>
          <p:cNvPr id="59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0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AF72-4E0B-4922-B905-AF0BE8F5AA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9760" cy="3487680"/>
          </a:xfrm>
          <a:prstGeom prst="rect">
            <a:avLst/>
          </a:prstGeom>
          <a:ln w="0">
            <a:noFill/>
          </a:ln>
        </p:spPr>
      </p:sp>
      <p:sp>
        <p:nvSpPr>
          <p:cNvPr id="60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0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2541-231D-4D47-AA87-CB97834AE8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9760" cy="3487680"/>
          </a:xfrm>
          <a:prstGeom prst="rect">
            <a:avLst/>
          </a:prstGeom>
          <a:ln w="0">
            <a:noFill/>
          </a:ln>
        </p:spPr>
      </p:sp>
      <p:sp>
        <p:nvSpPr>
          <p:cNvPr id="60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1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C579-2941-495E-B26E-5347B31EC0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81160" y="696960"/>
            <a:ext cx="4649760" cy="3487680"/>
          </a:xfrm>
          <a:prstGeom prst="rect">
            <a:avLst/>
          </a:prstGeom>
          <a:ln w="0">
            <a:noFill/>
          </a:ln>
        </p:spPr>
      </p:sp>
      <p:sp>
        <p:nvSpPr>
          <p:cNvPr id="61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1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E41B-C8BA-4C52-932F-AB8BA5B9D3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9760" cy="3487680"/>
          </a:xfrm>
          <a:prstGeom prst="rect">
            <a:avLst/>
          </a:prstGeom>
          <a:ln w="0">
            <a:noFill/>
          </a:ln>
        </p:spPr>
      </p:sp>
      <p:sp>
        <p:nvSpPr>
          <p:cNvPr id="61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2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272D-B3D5-4AE0-B14A-44069E4424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1160" y="696960"/>
            <a:ext cx="4649760" cy="3487680"/>
          </a:xfrm>
          <a:prstGeom prst="rect">
            <a:avLst/>
          </a:prstGeom>
          <a:ln w="0">
            <a:noFill/>
          </a:ln>
        </p:spPr>
      </p:sp>
      <p:sp>
        <p:nvSpPr>
          <p:cNvPr id="62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2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3EAD-7D26-43A3-9248-EE73D9E066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696960"/>
            <a:ext cx="4649760" cy="3487680"/>
          </a:xfrm>
          <a:prstGeom prst="rect">
            <a:avLst/>
          </a:prstGeom>
          <a:ln w="0">
            <a:noFill/>
          </a:ln>
        </p:spPr>
      </p:sp>
      <p:sp>
        <p:nvSpPr>
          <p:cNvPr id="62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3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7945-62A3-4B76-9BA5-FA5EFE606A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9760" cy="3487680"/>
          </a:xfrm>
          <a:prstGeom prst="rect">
            <a:avLst/>
          </a:prstGeom>
          <a:ln w="0">
            <a:noFill/>
          </a:ln>
        </p:spPr>
      </p:sp>
      <p:sp>
        <p:nvSpPr>
          <p:cNvPr id="63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3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2392-DD63-4866-B089-2737BD3E23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1160" y="696960"/>
            <a:ext cx="4649760" cy="3487680"/>
          </a:xfrm>
          <a:prstGeom prst="rect">
            <a:avLst/>
          </a:prstGeom>
          <a:ln w="0">
            <a:noFill/>
          </a:ln>
        </p:spPr>
      </p:sp>
      <p:sp>
        <p:nvSpPr>
          <p:cNvPr id="63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4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BD2E-2FFC-434A-81DF-1781D4E7CF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1160" y="696960"/>
            <a:ext cx="4649760" cy="3487680"/>
          </a:xfrm>
          <a:prstGeom prst="rect">
            <a:avLst/>
          </a:prstGeom>
          <a:ln w="0">
            <a:noFill/>
          </a:ln>
        </p:spPr>
      </p:sp>
      <p:sp>
        <p:nvSpPr>
          <p:cNvPr id="64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64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285E-E476-4EFC-8FA2-D757BF7830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9760" cy="3487680"/>
          </a:xfrm>
          <a:prstGeom prst="rect">
            <a:avLst/>
          </a:prstGeom>
          <a:ln w="0">
            <a:noFill/>
          </a:ln>
        </p:spPr>
      </p:sp>
      <p:sp>
        <p:nvSpPr>
          <p:cNvPr id="36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366"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9865-D52C-451D-8E6A-472BF6EC12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9760" cy="3487680"/>
          </a:xfrm>
          <a:prstGeom prst="rect">
            <a:avLst/>
          </a:prstGeom>
          <a:ln w="0">
            <a:noFill/>
          </a:ln>
        </p:spPr>
      </p:sp>
      <p:sp>
        <p:nvSpPr>
          <p:cNvPr id="369"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Header Placeholder 3"/>
          <p:cNvSpPr/>
          <p:nvPr/>
        </p:nvSpPr>
        <p:spPr>
          <a:xfrm>
            <a:off x="0" y="0"/>
            <a:ext cx="3036960" cy="463680"/>
          </a:xfrm>
          <a:prstGeom prst="rect">
            <a:avLst/>
          </a:prstGeom>
          <a:noFill/>
          <a:ln w="0">
            <a:noFill/>
          </a:ln>
        </p:spPr>
        <p:style>
          <a:lnRef idx="0"/>
          <a:fillRef idx="0"/>
          <a:effectRef idx="0"/>
          <a:fontRef idx="minor"/>
        </p:style>
        <p:txBody>
          <a:bodyPr lIns="91080" rIns="9108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SERVICES &amp; SHARED SERVICES ANNUAL REPORT 08/09</a:t>
            </a:r>
            <a:endParaRPr b="0" lang="en-US" sz="1200" spc="-1" strike="noStrike">
              <a:solidFill>
                <a:srgbClr val="000000"/>
              </a:solidFill>
              <a:latin typeface="Times New Roman"/>
            </a:endParaRPr>
          </a:p>
        </p:txBody>
      </p:sp>
      <p:sp>
        <p:nvSpPr>
          <p:cNvPr id="371" name="Footer Placeholder 4"/>
          <p:cNvSpPr/>
          <p:nvPr/>
        </p:nvSpPr>
        <p:spPr>
          <a:xfrm>
            <a:off x="0" y="8831160"/>
            <a:ext cx="3036960" cy="46368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Slide Number Placeholder 5"/>
          <p:cNvSpPr/>
          <p:nvPr/>
        </p:nvSpPr>
        <p:spPr>
          <a:xfrm>
            <a:off x="3971880" y="8831160"/>
            <a:ext cx="3036960" cy="46368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3960-C5D6-4A0D-9BCA-3C9F828438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F2158-493C-4235-9D7F-9D6E04EF7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DF0D2-363B-4DB3-8577-A67F3A8AE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D8891-0C94-403A-9DBE-4DB4F7EA1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FA248-3165-45C6-9EDC-EA947B352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3E02B-B59F-478F-9B56-101D9956E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84109-F2B1-4293-B9CF-D80E84FFB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F6CCB-E898-4B25-962F-FF5E7756B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0A531-AB31-4FDA-B2B4-D304523DB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BB11C-368A-4F94-9B21-55CA69804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1C872-7D26-4ECE-9F5B-230F1EBCD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A1F3F-241E-4EF4-B384-BEF8A3D88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0DD99-0FFF-4745-AC55-E8C02685B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FD027-CEFC-4C5F-B342-7E6604085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BB5B0-253D-4E36-8BE4-E32E84505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944B8-2D1D-40F3-B98E-B51DE84CE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48119-B677-454D-8362-2F5B9085A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E4C03-22E9-4E4D-9F0C-CE3CB32E5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40CD9-5150-4F23-AA78-AD80D0302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A91D2-489A-47A3-86A9-C3EE63F1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BAA85-3DBA-4A39-A6D2-99471D23C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52EFC-0AB6-4CE6-AC1A-1A5AA5F80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26F78-85E0-4ABC-8BF7-60D0463CB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4EFF-6E9F-43D0-B2F3-57B6F3AD3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918EE-1854-4035-BB6F-BDBF0650F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Makhuduthamaga Corporate Services Annual Report  1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FE69-37D3-4A36-A5F8-EFA3B63CE79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000000"/>
                </a:solidFill>
                <a:latin typeface="Arial"/>
              </a:rPr>
              <a:t>Makhuduthamaga Corporate Services Annual Report  1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DEA7-35A9-4D48-8C2D-E2D80A96B7F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11280" y="3765240"/>
            <a:ext cx="8208720" cy="205740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Annexure 1</a:t>
            </a:r>
            <a:br>
              <a:rPr sz="2800"/>
            </a:br>
            <a:r>
              <a:rPr b="1" lang="en-US" sz="5400" spc="-1" strike="noStrike">
                <a:solidFill>
                  <a:srgbClr val="660000"/>
                </a:solidFill>
                <a:latin typeface="Arial"/>
              </a:rPr>
              <a:t> ANNUAL REPORT</a:t>
            </a:r>
            <a:endParaRPr b="0" lang="en-US" sz="5400" spc="-1" strike="noStrike">
              <a:solidFill>
                <a:srgbClr val="000000"/>
              </a:solidFill>
              <a:latin typeface="Times New Roman"/>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00"/>
                </a:solidFill>
                <a:latin typeface="Arial"/>
              </a:rPr>
              <a:t>2010/11FINANCIAL YEAR</a:t>
            </a:r>
            <a:endParaRPr b="0" lang="en-US" sz="5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104" name="Picture 25" descr=""/>
          <p:cNvPicPr/>
          <p:nvPr/>
        </p:nvPicPr>
        <p:blipFill>
          <a:blip r:embed="rId1"/>
          <a:stretch/>
        </p:blipFill>
        <p:spPr>
          <a:xfrm>
            <a:off x="2916360" y="1052640"/>
            <a:ext cx="3960720" cy="2520720"/>
          </a:xfrm>
          <a:prstGeom prst="rect">
            <a:avLst/>
          </a:prstGeom>
          <a:ln w="0">
            <a:noFill/>
          </a:ln>
        </p:spPr>
      </p:pic>
      <p:sp>
        <p:nvSpPr>
          <p:cNvPr id="10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A04C-2EA6-4E2E-8967-A7AB671D1F3C}"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549000"/>
            <a:ext cx="8229600" cy="71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0000"/>
                </a:solidFill>
                <a:latin typeface="Times New Roman"/>
              </a:rPr>
              <a:t>  </a:t>
            </a:r>
            <a:r>
              <a:rPr b="0" lang="en-US" sz="2400" spc="-1" strike="noStrike">
                <a:solidFill>
                  <a:srgbClr val="660000"/>
                </a:solidFill>
                <a:latin typeface="Times New Roman"/>
              </a:rPr>
              <a:t>ICT </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38" name=""/>
          <p:cNvGraphicFramePr/>
          <p:nvPr/>
        </p:nvGraphicFramePr>
        <p:xfrm>
          <a:off x="324000" y="1844640"/>
          <a:ext cx="7848360" cy="4224240"/>
        </p:xfrm>
        <a:graphic>
          <a:graphicData uri="http://schemas.openxmlformats.org/drawingml/2006/table">
            <a:tbl>
              <a:tblPr/>
              <a:tblGrid>
                <a:gridCol w="982440"/>
                <a:gridCol w="1123920"/>
                <a:gridCol w="1149480"/>
                <a:gridCol w="1467000"/>
                <a:gridCol w="1563480"/>
                <a:gridCol w="1562040"/>
              </a:tblGrid>
              <a:tr h="789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226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IT policies developed</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To develop and implement IT policies.</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ICT  Policy reviewed and Telephone management policy developed</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hange of leadership.</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8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IT equipment procured and installed</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To supply all new staff members with IT equipment.</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ICT equipment procured including 2 server </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None</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22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Preventative maintenance plan on IT infrastructure developed</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Preventative maintenance plan develop and implement</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Maintenance Plan developed</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None </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139" name="Picture 25" descr=""/>
          <p:cNvPicPr/>
          <p:nvPr/>
        </p:nvPicPr>
        <p:blipFill>
          <a:blip r:embed="rId1"/>
          <a:stretch/>
        </p:blipFill>
        <p:spPr>
          <a:xfrm>
            <a:off x="755640" y="476280"/>
            <a:ext cx="1000080" cy="714240"/>
          </a:xfrm>
          <a:prstGeom prst="rect">
            <a:avLst/>
          </a:prstGeom>
          <a:ln w="0">
            <a:noFill/>
          </a:ln>
        </p:spPr>
      </p:pic>
      <p:sp>
        <p:nvSpPr>
          <p:cNvPr id="14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1535-2EC6-43CD-9D35-2A5741C002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734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 </a:t>
            </a:r>
            <a:r>
              <a:rPr b="0" lang="en-US" sz="2400" spc="-1" strike="noStrike">
                <a:solidFill>
                  <a:srgbClr val="660000"/>
                </a:solidFill>
                <a:latin typeface="Times New Roman"/>
              </a:rPr>
              <a:t>ICT (continued) </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r>
              <a:rPr b="0" lang="en-US" sz="2400" spc="-1" strike="noStrike">
                <a:solidFill>
                  <a:srgbClr val="420000"/>
                </a:solidFill>
                <a:latin typeface="Times New Roman"/>
              </a:rPr>
              <a:t> </a:t>
            </a:r>
            <a:endParaRPr b="0" lang="en-US" sz="2400" spc="-1" strike="noStrike">
              <a:solidFill>
                <a:srgbClr val="420000"/>
              </a:solidFill>
              <a:latin typeface="Times New Roman"/>
            </a:endParaRPr>
          </a:p>
        </p:txBody>
      </p:sp>
      <p:graphicFrame>
        <p:nvGraphicFramePr>
          <p:cNvPr id="142" name=""/>
          <p:cNvGraphicFramePr/>
          <p:nvPr/>
        </p:nvGraphicFramePr>
        <p:xfrm>
          <a:off x="457200" y="1828800"/>
          <a:ext cx="8362800" cy="4645080"/>
        </p:xfrm>
        <a:graphic>
          <a:graphicData uri="http://schemas.openxmlformats.org/drawingml/2006/table">
            <a:tbl>
              <a:tblPr/>
              <a:tblGrid>
                <a:gridCol w="946080"/>
                <a:gridCol w="1298520"/>
                <a:gridCol w="1224000"/>
                <a:gridCol w="1563840"/>
                <a:gridCol w="1665360"/>
                <a:gridCol w="1665000"/>
              </a:tblGrid>
              <a:tr h="58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493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 </a:t>
                      </a:r>
                      <a:r>
                        <a:rPr b="0" lang="en-ZA" sz="1200" spc="-1" strike="noStrike">
                          <a:solidFill>
                            <a:srgbClr val="000000"/>
                          </a:solidFill>
                          <a:latin typeface="Times New Roman"/>
                        </a:rPr>
                        <a:t>Corporate APN  connected</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Connect for Corporate APN</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None</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nsufficient budget</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63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 </a:t>
                      </a:r>
                      <a:r>
                        <a:rPr b="0" lang="en-ZA" sz="1200" spc="-1" strike="noStrike">
                          <a:solidFill>
                            <a:srgbClr val="000000"/>
                          </a:solidFill>
                          <a:latin typeface="Times New Roman"/>
                        </a:rPr>
                        <a:t>Masters System Plan designed</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Design Masters Systems Plan( MSP) DRP</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None</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dequate Budgeting</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04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with DBSA for LG-NET connectivity done</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with LG- NET </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completed and names of all Makhuduthamaga staff members send to DBSA</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aff needs to be trained on how to use DBSA network </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104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 </a:t>
                      </a:r>
                      <a:r>
                        <a:rPr b="0" lang="en-ZA" sz="1200" spc="-1" strike="noStrike">
                          <a:solidFill>
                            <a:srgbClr val="000000"/>
                          </a:solidFill>
                          <a:latin typeface="Times New Roman"/>
                        </a:rPr>
                        <a:t>SLA with SITA for website management signed.</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o have SLA with SITA signed for website content management</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 signed and website is updated on regular basis</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communication as some information is not send to ICT for updates</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63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Current telephone system to be upgraded upgraded</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o upgrade the telephone system</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elephone system is upgraded to Telkom</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None</a:t>
                      </a:r>
                      <a:endParaRPr b="0" lang="en-US" sz="12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2920" marR="5292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143" name="Picture 25" descr=""/>
          <p:cNvPicPr/>
          <p:nvPr/>
        </p:nvPicPr>
        <p:blipFill>
          <a:blip r:embed="rId1"/>
          <a:stretch/>
        </p:blipFill>
        <p:spPr>
          <a:xfrm>
            <a:off x="785880" y="642960"/>
            <a:ext cx="1000080" cy="714240"/>
          </a:xfrm>
          <a:prstGeom prst="rect">
            <a:avLst/>
          </a:prstGeom>
          <a:ln w="0">
            <a:noFill/>
          </a:ln>
        </p:spPr>
      </p:pic>
      <p:sp>
        <p:nvSpPr>
          <p:cNvPr id="14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E986-368B-418A-8B7E-8C00A13ECA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475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ICT(continued)</a:t>
            </a:r>
            <a:r>
              <a:rPr b="0" lang="en-US" sz="2400" spc="-1" strike="noStrike">
                <a:solidFill>
                  <a:srgbClr val="420000"/>
                </a:solidFill>
                <a:latin typeface="Times New Roman"/>
              </a:rPr>
              <a:t> </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46" name=""/>
          <p:cNvGraphicFramePr/>
          <p:nvPr/>
        </p:nvGraphicFramePr>
        <p:xfrm>
          <a:off x="395280" y="1773360"/>
          <a:ext cx="8317080" cy="2970000"/>
        </p:xfrm>
        <a:graphic>
          <a:graphicData uri="http://schemas.openxmlformats.org/drawingml/2006/table">
            <a:tbl>
              <a:tblPr/>
              <a:tblGrid>
                <a:gridCol w="1041480"/>
                <a:gridCol w="1190520"/>
                <a:gridCol w="1217520"/>
                <a:gridCol w="1555920"/>
                <a:gridCol w="1655640"/>
                <a:gridCol w="1656000"/>
              </a:tblGrid>
              <a:tr h="100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96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Site offices Connectivity (Connect Libraries and Traffic) done</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To link Municipal satellite offices to central server.</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 </a:t>
                      </a:r>
                      <a:r>
                        <a:rPr b="0" lang="en-ZA" sz="1400" spc="-1" strike="noStrike">
                          <a:solidFill>
                            <a:srgbClr val="000000"/>
                          </a:solidFill>
                          <a:latin typeface="Times New Roman"/>
                        </a:rPr>
                        <a:t>Cabling done on two site offices. 1 Jane Furze Library. 2. Sekhukhune Traffic</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rPr>
                        <a:t>Jane Furse Library is linked to Main Office </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e</a:t>
                      </a:r>
                      <a:endParaRPr b="0" lang="en-US" sz="14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52920" rIns="52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2920" marR="5292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bl>
          </a:graphicData>
        </a:graphic>
      </p:graphicFrame>
      <p:pic>
        <p:nvPicPr>
          <p:cNvPr id="147" name="Picture 25" descr=""/>
          <p:cNvPicPr/>
          <p:nvPr/>
        </p:nvPicPr>
        <p:blipFill>
          <a:blip r:embed="rId1"/>
          <a:stretch/>
        </p:blipFill>
        <p:spPr>
          <a:xfrm>
            <a:off x="785880" y="642960"/>
            <a:ext cx="1000080" cy="714240"/>
          </a:xfrm>
          <a:prstGeom prst="rect">
            <a:avLst/>
          </a:prstGeom>
          <a:ln w="0">
            <a:noFill/>
          </a:ln>
        </p:spPr>
      </p:pic>
      <p:sp>
        <p:nvSpPr>
          <p:cNvPr id="14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7985-03D3-4275-9727-D8538386DD1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907560"/>
            <a:ext cx="822960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SPECIAL PROGRAMME</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50" name=""/>
          <p:cNvGraphicFramePr/>
          <p:nvPr/>
        </p:nvGraphicFramePr>
        <p:xfrm>
          <a:off x="179280" y="1557360"/>
          <a:ext cx="8533080" cy="5145120"/>
        </p:xfrm>
        <a:graphic>
          <a:graphicData uri="http://schemas.openxmlformats.org/drawingml/2006/table">
            <a:tbl>
              <a:tblPr/>
              <a:tblGrid>
                <a:gridCol w="1068480"/>
                <a:gridCol w="1222560"/>
                <a:gridCol w="1249200"/>
                <a:gridCol w="1593720"/>
                <a:gridCol w="1700280"/>
                <a:gridCol w="1698840"/>
              </a:tblGrid>
              <a:tr h="973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7365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ayoral Outreach</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Outreach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o hold 28 Outreach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4 Outreaches and public participation hel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5120">
                <a:tc rowSpan="2">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ommunicators forum</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o hold 4 communicators forum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2 communicators forums hel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Unavailability of the secretariat (GCI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22724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essa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o publish 20 messa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8 messages published in the form of radio adverts, newspaper and poste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orporate Brand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o purchase banners and video camera</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7 banners purchased.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Video Camera not yet deliver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ommunication Strategy in pl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o review Communication Strateg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trategy review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t adopted  by the counci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151" name="Picture 25" descr=""/>
          <p:cNvPicPr/>
          <p:nvPr/>
        </p:nvPicPr>
        <p:blipFill>
          <a:blip r:embed="rId1"/>
          <a:stretch/>
        </p:blipFill>
        <p:spPr>
          <a:xfrm>
            <a:off x="785880" y="642960"/>
            <a:ext cx="1000080" cy="714240"/>
          </a:xfrm>
          <a:prstGeom prst="rect">
            <a:avLst/>
          </a:prstGeom>
          <a:ln w="0">
            <a:noFill/>
          </a:ln>
        </p:spPr>
      </p:pic>
      <p:sp>
        <p:nvSpPr>
          <p:cNvPr id="15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C712-FD08-4498-BCA6-91318532987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475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SPECIAL PROGRAMME (continued)</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54" name=""/>
          <p:cNvGraphicFramePr/>
          <p:nvPr/>
        </p:nvGraphicFramePr>
        <p:xfrm>
          <a:off x="395280" y="1773360"/>
          <a:ext cx="8317080" cy="4465440"/>
        </p:xfrm>
        <a:graphic>
          <a:graphicData uri="http://schemas.openxmlformats.org/drawingml/2006/table">
            <a:tbl>
              <a:tblPr/>
              <a:tblGrid>
                <a:gridCol w="1041480"/>
                <a:gridCol w="1190520"/>
                <a:gridCol w="1217520"/>
                <a:gridCol w="1555920"/>
                <a:gridCol w="1655640"/>
                <a:gridCol w="1656000"/>
              </a:tblGrid>
              <a:tr h="973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630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Website Content</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Website Updat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aintenance and update of the website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No regular updat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Departments not supplying information of their activiti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052640">
                <a:tc rowSpan="2">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ublications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Diaries, Calendars, Newslett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urchase of Diaries, Calendars, and development of Newslett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300 diaries and 5000 calendars procured. Newsletters not don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8413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Newspaper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egular media Scan and monitoring of all newspaper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equisition not approv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equisition not approv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9684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pecial Programm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HIV / Aid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stablish HIV/Aids Council</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ommittee Established</a:t>
                      </a:r>
                      <a:endParaRPr b="0" lang="en-US" sz="1200" spc="-1" strike="noStrike">
                        <a:solidFill>
                          <a:srgbClr val="000000"/>
                        </a:solidFill>
                        <a:latin typeface="Times New Roman"/>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olicy on special  programs review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he committee is dysfunctional due to lack of programm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55" name="Picture 25" descr=""/>
          <p:cNvPicPr/>
          <p:nvPr/>
        </p:nvPicPr>
        <p:blipFill>
          <a:blip r:embed="rId1"/>
          <a:stretch/>
        </p:blipFill>
        <p:spPr>
          <a:xfrm>
            <a:off x="785880" y="642960"/>
            <a:ext cx="1000080" cy="714240"/>
          </a:xfrm>
          <a:prstGeom prst="rect">
            <a:avLst/>
          </a:prstGeom>
          <a:ln w="0">
            <a:noFill/>
          </a:ln>
        </p:spPr>
      </p:pic>
      <p:sp>
        <p:nvSpPr>
          <p:cNvPr id="15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9B03-4DDC-4F03-86FA-78C05D0D78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5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SPECIAL PROGRAMME (continued)</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58" name=""/>
          <p:cNvGraphicFramePr/>
          <p:nvPr/>
        </p:nvGraphicFramePr>
        <p:xfrm>
          <a:off x="395280" y="1773360"/>
          <a:ext cx="8317080" cy="3609720"/>
        </p:xfrm>
        <a:graphic>
          <a:graphicData uri="http://schemas.openxmlformats.org/drawingml/2006/table">
            <a:tbl>
              <a:tblPr/>
              <a:tblGrid>
                <a:gridCol w="1041480"/>
                <a:gridCol w="1190520"/>
                <a:gridCol w="1217520"/>
                <a:gridCol w="1555920"/>
                <a:gridCol w="1655640"/>
                <a:gridCol w="1656000"/>
              </a:tblGrid>
              <a:tr h="792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735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upport to Traditional Leade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raditional Leaders suppor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ampuru Day Suppor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upport to Traditional Leade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109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Youth</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Youth Council  establish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Youth Council Launched</a:t>
                      </a:r>
                      <a:endParaRPr b="0" lang="en-US" sz="1400" spc="-1" strike="noStrike">
                        <a:solidFill>
                          <a:srgbClr val="000000"/>
                        </a:solidFill>
                        <a:latin typeface="Times New Roman"/>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Youth Festival hel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 responsible offic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Youth</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973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isability Programm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isability forum establish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Forum in pl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 responsible offic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isability Programm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159" name="Picture 25" descr=""/>
          <p:cNvPicPr/>
          <p:nvPr/>
        </p:nvPicPr>
        <p:blipFill>
          <a:blip r:embed="rId1"/>
          <a:stretch/>
        </p:blipFill>
        <p:spPr>
          <a:xfrm>
            <a:off x="785880" y="642960"/>
            <a:ext cx="1000080" cy="714240"/>
          </a:xfrm>
          <a:prstGeom prst="rect">
            <a:avLst/>
          </a:prstGeom>
          <a:ln w="0">
            <a:noFill/>
          </a:ln>
        </p:spPr>
      </p:pic>
      <p:sp>
        <p:nvSpPr>
          <p:cNvPr id="16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D0B6-9D4E-4368-AB67-2E7C73CF81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ubTitle"/>
          </p:nvPr>
        </p:nvSpPr>
        <p:spPr>
          <a:xfrm>
            <a:off x="762120" y="3765240"/>
            <a:ext cx="7696080" cy="20574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PRESENTATION 2</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COMMUNITY SERVICES</a:t>
            </a:r>
            <a:br>
              <a:rPr sz="2800"/>
            </a:br>
            <a:r>
              <a:rPr b="1" lang="en-US" sz="2800" spc="-1" strike="noStrike">
                <a:solidFill>
                  <a:srgbClr val="660000"/>
                </a:solidFill>
                <a:latin typeface="Arial"/>
              </a:rPr>
              <a:t> ANNUAL REPOR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2010/1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2" name="Picture 25" descr=""/>
          <p:cNvPicPr/>
          <p:nvPr/>
        </p:nvPicPr>
        <p:blipFill>
          <a:blip r:embed="rId1"/>
          <a:stretch/>
        </p:blipFill>
        <p:spPr>
          <a:xfrm>
            <a:off x="3571920" y="1428840"/>
            <a:ext cx="2071800" cy="1697040"/>
          </a:xfrm>
          <a:prstGeom prst="rect">
            <a:avLst/>
          </a:prstGeom>
          <a:ln w="0">
            <a:noFill/>
          </a:ln>
        </p:spPr>
      </p:pic>
      <p:sp>
        <p:nvSpPr>
          <p:cNvPr id="1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A4B3-394F-43D4-9D4D-322E386BBF4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620640"/>
            <a:ext cx="82296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2400" spc="-1" strike="noStrike">
                <a:solidFill>
                  <a:srgbClr val="660000"/>
                </a:solidFill>
                <a:latin typeface="Times New Roman"/>
              </a:rPr>
              <a:t>SPORTS ARTS AND CULTURE</a:t>
            </a:r>
            <a:br>
              <a:rPr sz="2400"/>
            </a:br>
            <a:r>
              <a:rPr b="0" lang="en-US" sz="2400" spc="-1" strike="noStrike">
                <a:solidFill>
                  <a:srgbClr val="420000"/>
                </a:solidFill>
                <a:latin typeface="Times New Roman"/>
              </a:rPr>
              <a:t>            </a:t>
            </a:r>
            <a:endParaRPr b="0" lang="en-US" sz="2400" spc="-1" strike="noStrike">
              <a:solidFill>
                <a:srgbClr val="420000"/>
              </a:solidFill>
              <a:latin typeface="Times New Roman"/>
            </a:endParaRPr>
          </a:p>
        </p:txBody>
      </p:sp>
      <p:graphicFrame>
        <p:nvGraphicFramePr>
          <p:cNvPr id="165" name=""/>
          <p:cNvGraphicFramePr/>
          <p:nvPr/>
        </p:nvGraphicFramePr>
        <p:xfrm>
          <a:off x="108000" y="1311120"/>
          <a:ext cx="9036000" cy="5286600"/>
        </p:xfrm>
        <a:graphic>
          <a:graphicData uri="http://schemas.openxmlformats.org/drawingml/2006/table">
            <a:tbl>
              <a:tblPr/>
              <a:tblGrid>
                <a:gridCol w="944640"/>
                <a:gridCol w="1122120"/>
                <a:gridCol w="1536840"/>
                <a:gridCol w="2184480"/>
                <a:gridCol w="1623960"/>
                <a:gridCol w="1623960"/>
              </a:tblGrid>
              <a:tr h="808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306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ports ,Arts and Cultur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ports Cent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pgraded and maintain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o upgrade and maintain the following sports centr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Phokoane,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len Cowie,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Marishane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nd Jane Furs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pecifications for upgrading and maintenance and site inspection done  for all the sport centres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ppointment not yet d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elay in the appointment of Sports Offic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31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ports, Arts and culture promo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o conduct 5 major activities for sports, Arts and Cultu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o renovate and fence Peter Nchabeleng sports grou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o build parking lot for Jane Furse artificial.</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Ball  Games( netball,tennis, male soccer ,female soccer, rugby and cricket )  held at Phokoane ,Glen-Cowie, Masemola and Schoonoord</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O.R. Tambo Games held at Jane Furse </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Hosted District O. R. Games </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Peter Nchabeleng renovated </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AFA is busy building changing rooms at the place where the parking lot was to be built.</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Position with trophies were won</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hortage of fu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elay in the appointment of Sports Offic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ack of equipment due to budget constrai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ACK OF ACKNOWLEGDEMENT AND RECOGNITION OF WINNERS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66" name="Picture 25" descr=""/>
          <p:cNvPicPr/>
          <p:nvPr/>
        </p:nvPicPr>
        <p:blipFill>
          <a:blip r:embed="rId1"/>
          <a:stretch/>
        </p:blipFill>
        <p:spPr>
          <a:xfrm>
            <a:off x="755640" y="549360"/>
            <a:ext cx="1000080" cy="714240"/>
          </a:xfrm>
          <a:prstGeom prst="rect">
            <a:avLst/>
          </a:prstGeom>
          <a:ln w="0">
            <a:noFill/>
          </a:ln>
        </p:spPr>
      </p:pic>
      <p:sp>
        <p:nvSpPr>
          <p:cNvPr id="16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344E-85A5-4D7D-9318-1916328354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SPORTS ARTS AND CULTURE (continued)</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69" name=""/>
          <p:cNvGraphicFramePr/>
          <p:nvPr/>
        </p:nvGraphicFramePr>
        <p:xfrm>
          <a:off x="108000" y="1413000"/>
          <a:ext cx="8856720" cy="4406760"/>
        </p:xfrm>
        <a:graphic>
          <a:graphicData uri="http://schemas.openxmlformats.org/drawingml/2006/table">
            <a:tbl>
              <a:tblPr/>
              <a:tblGrid>
                <a:gridCol w="1119240"/>
                <a:gridCol w="1095120"/>
                <a:gridCol w="1281240"/>
                <a:gridCol w="1981080"/>
                <a:gridCol w="1690920"/>
                <a:gridCol w="1689120"/>
              </a:tblGrid>
              <a:tr h="749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560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braries and Community hall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braries and community halls upgraded and maintain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o construct, upgrade and maintain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Phaahla Library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Patantswane </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nd Jane Furse libraries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struction of Phaahla library completed and waiting for official handing over.</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Patantswane library renovations/upgrading is  at an advanced stage will be  completed toward end of July</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Jane Furse library renovated</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Phaahla community hall renovated and Maintain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n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0969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digent regist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digent register Upda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o update indigent regist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ppointment of  5 Data Capturers for 5 months </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egister captured   and available</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y have captured 1113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eview of Indigent Policy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70" name="Picture 25" descr=""/>
          <p:cNvPicPr/>
          <p:nvPr/>
        </p:nvPicPr>
        <p:blipFill>
          <a:blip r:embed="rId1"/>
          <a:stretch/>
        </p:blipFill>
        <p:spPr>
          <a:xfrm>
            <a:off x="826920" y="549360"/>
            <a:ext cx="1000440" cy="714240"/>
          </a:xfrm>
          <a:prstGeom prst="rect">
            <a:avLst/>
          </a:prstGeom>
          <a:ln w="0">
            <a:noFill/>
          </a:ln>
        </p:spPr>
      </p:pic>
      <p:sp>
        <p:nvSpPr>
          <p:cNvPr id="17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2B06-AEB0-4CCD-A19E-645B2C3672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475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PARKS AND CEMETERIES</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73" name=""/>
          <p:cNvGraphicFramePr/>
          <p:nvPr/>
        </p:nvGraphicFramePr>
        <p:xfrm>
          <a:off x="179280" y="1773360"/>
          <a:ext cx="8856720" cy="2832120"/>
        </p:xfrm>
        <a:graphic>
          <a:graphicData uri="http://schemas.openxmlformats.org/drawingml/2006/table">
            <a:tbl>
              <a:tblPr/>
              <a:tblGrid>
                <a:gridCol w="1108080"/>
                <a:gridCol w="1270080"/>
                <a:gridCol w="1295280"/>
                <a:gridCol w="1656000"/>
                <a:gridCol w="1763640"/>
                <a:gridCol w="1763640"/>
              </a:tblGrid>
              <a:tr h="792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066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ustomer car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o conduct 4 awareness campaigns at sub growth poin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73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arks and Cemeteries ,site develop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o develop Cemetery and Parks sit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ervices provider appointed for fencing at Jane Furse cemeter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60% work done and the other work is standing stil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74" name="Picture 25" descr=""/>
          <p:cNvPicPr/>
          <p:nvPr/>
        </p:nvPicPr>
        <p:blipFill>
          <a:blip r:embed="rId1"/>
          <a:stretch/>
        </p:blipFill>
        <p:spPr>
          <a:xfrm>
            <a:off x="785880" y="642960"/>
            <a:ext cx="1000080" cy="714240"/>
          </a:xfrm>
          <a:prstGeom prst="rect">
            <a:avLst/>
          </a:prstGeom>
          <a:ln w="0">
            <a:noFill/>
          </a:ln>
        </p:spPr>
      </p:pic>
      <p:sp>
        <p:nvSpPr>
          <p:cNvPr id="17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FCC5-5FCE-4689-B2C7-244AA4CF28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762120" y="3765240"/>
            <a:ext cx="7696080" cy="18954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PRESENTATION 1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CORPORATE SERVICES</a:t>
            </a:r>
            <a:br>
              <a:rPr sz="2800"/>
            </a:br>
            <a:r>
              <a:rPr b="1" lang="en-US" sz="2800" spc="-1" strike="noStrike">
                <a:solidFill>
                  <a:srgbClr val="660000"/>
                </a:solidFill>
                <a:latin typeface="Arial"/>
              </a:rPr>
              <a:t> ANNUAL REPOR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2010/1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Picture 25" descr=""/>
          <p:cNvPicPr/>
          <p:nvPr/>
        </p:nvPicPr>
        <p:blipFill>
          <a:blip r:embed="rId1"/>
          <a:stretch/>
        </p:blipFill>
        <p:spPr>
          <a:xfrm>
            <a:off x="3571920" y="1428840"/>
            <a:ext cx="2071800" cy="1697040"/>
          </a:xfrm>
          <a:prstGeom prst="rect">
            <a:avLst/>
          </a:prstGeom>
          <a:ln w="0">
            <a:noFill/>
          </a:ln>
        </p:spPr>
      </p:pic>
      <p:sp>
        <p:nvSpPr>
          <p:cNvPr id="10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567A-FFAF-4617-A0FE-ECDC9C7C3344}"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475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WASTE MANAGEME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77" name=""/>
          <p:cNvGraphicFramePr/>
          <p:nvPr/>
        </p:nvGraphicFramePr>
        <p:xfrm>
          <a:off x="179280" y="1773360"/>
          <a:ext cx="8856720" cy="5041800"/>
        </p:xfrm>
        <a:graphic>
          <a:graphicData uri="http://schemas.openxmlformats.org/drawingml/2006/table">
            <a:tbl>
              <a:tblPr/>
              <a:tblGrid>
                <a:gridCol w="1108080"/>
                <a:gridCol w="1270080"/>
                <a:gridCol w="1295280"/>
                <a:gridCol w="1656000"/>
                <a:gridCol w="1763640"/>
                <a:gridCol w="176364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34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Waste and Environmental manage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Waste management project extend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o extend waste management projec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he services provider appointed by LEDET.</a:t>
                      </a: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 </a:t>
                      </a:r>
                      <a:r>
                        <a:rPr b="0" lang="en-US" sz="1400" spc="-1" strike="noStrike">
                          <a:solidFill>
                            <a:srgbClr val="000000"/>
                          </a:solidFill>
                          <a:latin typeface="Times New Roman"/>
                          <a:ea typeface="SimSun"/>
                        </a:rPr>
                        <a:t>With 32 employees is continuing with the municipality</a:t>
                      </a:r>
                      <a:endParaRPr b="0" lang="en-US" sz="14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erms of reference  develop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hortage of fund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131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wareness campaign program conduc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o conduct (4 ) Four awareness campaig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8 Awareness campaign held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tsoke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Wonderboom</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chacha</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Glen cowi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Ngwanamatla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bintan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thapisa</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olepa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he turn up was not good at wonder boom due to  lack of communic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78" name="Picture 25" descr=""/>
          <p:cNvPicPr/>
          <p:nvPr/>
        </p:nvPicPr>
        <p:blipFill>
          <a:blip r:embed="rId1"/>
          <a:stretch/>
        </p:blipFill>
        <p:spPr>
          <a:xfrm>
            <a:off x="785880" y="642960"/>
            <a:ext cx="1000080" cy="714240"/>
          </a:xfrm>
          <a:prstGeom prst="rect">
            <a:avLst/>
          </a:prstGeom>
          <a:ln w="0">
            <a:noFill/>
          </a:ln>
        </p:spPr>
      </p:pic>
      <p:sp>
        <p:nvSpPr>
          <p:cNvPr id="17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4667-82A3-4478-A302-9A7E4793A38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476280"/>
            <a:ext cx="8229600" cy="93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TRAFFIC SERVICES</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81" name=""/>
          <p:cNvGraphicFramePr/>
          <p:nvPr/>
        </p:nvGraphicFramePr>
        <p:xfrm>
          <a:off x="214200" y="1341360"/>
          <a:ext cx="8678880" cy="4997520"/>
        </p:xfrm>
        <a:graphic>
          <a:graphicData uri="http://schemas.openxmlformats.org/drawingml/2006/table">
            <a:tbl>
              <a:tblPr/>
              <a:tblGrid>
                <a:gridCol w="1135080"/>
                <a:gridCol w="1235160"/>
                <a:gridCol w="1262160"/>
                <a:gridCol w="1612800"/>
                <a:gridCol w="1716120"/>
                <a:gridCol w="1717560"/>
              </a:tblGrid>
              <a:tr h="792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4205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raffic servic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raffic services at stations Improv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o improve traffic infrastructure  at the following Traffic Station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choonoord</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bo</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service provider for Schoonoord is appointed and at completion stage.</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enovations at Nebo Traffic Station are completed.</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Enatis system is installed.</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10 computers for Learners license theory tests have been installed.</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bo Station has Bore- hole for water supply.</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bo station to be opened on the 31 August 2011</a:t>
                      </a:r>
                      <a:endParaRPr b="0" lang="en-US" sz="12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4 Examiners are appoin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elaying Appointment of cashier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bl>
          </a:graphicData>
        </a:graphic>
      </p:graphicFrame>
      <p:pic>
        <p:nvPicPr>
          <p:cNvPr id="182" name="Picture 25" descr=""/>
          <p:cNvPicPr/>
          <p:nvPr/>
        </p:nvPicPr>
        <p:blipFill>
          <a:blip r:embed="rId1"/>
          <a:stretch/>
        </p:blipFill>
        <p:spPr>
          <a:xfrm>
            <a:off x="785880" y="642960"/>
            <a:ext cx="1000080" cy="714240"/>
          </a:xfrm>
          <a:prstGeom prst="rect">
            <a:avLst/>
          </a:prstGeom>
          <a:ln w="0">
            <a:noFill/>
          </a:ln>
        </p:spPr>
      </p:pic>
      <p:sp>
        <p:nvSpPr>
          <p:cNvPr id="18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C7C3-77EB-42B0-9AE0-BE098D8B2D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620640"/>
            <a:ext cx="82296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TRAFFIC SERVICES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85" name=""/>
          <p:cNvGraphicFramePr/>
          <p:nvPr/>
        </p:nvGraphicFramePr>
        <p:xfrm>
          <a:off x="214200" y="1484280"/>
          <a:ext cx="8929800" cy="4390920"/>
        </p:xfrm>
        <a:graphic>
          <a:graphicData uri="http://schemas.openxmlformats.org/drawingml/2006/table">
            <a:tbl>
              <a:tblPr/>
              <a:tblGrid>
                <a:gridCol w="1168560"/>
                <a:gridCol w="1270080"/>
                <a:gridCol w="1299960"/>
                <a:gridCol w="1657440"/>
                <a:gridCol w="1766880"/>
                <a:gridCol w="1766880"/>
              </a:tblGrid>
              <a:tr h="82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493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Established law enforcement un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dvertisement and appointment of law enforcement traffic officers and Examine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osts were advertised for 10 traffic office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elaying in appointing of office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009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Vehicle Testing Station at Nebo calibra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o establish a functional Vehicle Testing St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Nebo VTS at completion stag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elay in filling of pos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066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wareness campaigns at hazardous locations conduc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o conduct 4 awareness campaign at hazardous loca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he campaigns are aligned with the department and Distric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Lack of personne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186" name="Picture 25" descr=""/>
          <p:cNvPicPr/>
          <p:nvPr/>
        </p:nvPicPr>
        <p:blipFill>
          <a:blip r:embed="rId1"/>
          <a:stretch/>
        </p:blipFill>
        <p:spPr>
          <a:xfrm>
            <a:off x="785880" y="642960"/>
            <a:ext cx="1000080" cy="714240"/>
          </a:xfrm>
          <a:prstGeom prst="rect">
            <a:avLst/>
          </a:prstGeom>
          <a:ln w="0">
            <a:noFill/>
          </a:ln>
        </p:spPr>
      </p:pic>
      <p:sp>
        <p:nvSpPr>
          <p:cNvPr id="18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647B-A2C7-47B1-B5C4-C0A0D395731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620640"/>
            <a:ext cx="82296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DISASTER MANAGEME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89" name=""/>
          <p:cNvGraphicFramePr/>
          <p:nvPr/>
        </p:nvGraphicFramePr>
        <p:xfrm>
          <a:off x="214200" y="1484280"/>
          <a:ext cx="8929800" cy="4205160"/>
        </p:xfrm>
        <a:graphic>
          <a:graphicData uri="http://schemas.openxmlformats.org/drawingml/2006/table">
            <a:tbl>
              <a:tblPr/>
              <a:tblGrid>
                <a:gridCol w="1168560"/>
                <a:gridCol w="1270080"/>
                <a:gridCol w="1299960"/>
                <a:gridCol w="1657440"/>
                <a:gridCol w="1766880"/>
                <a:gridCol w="176688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91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isaster Manage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wareness campaigns be hel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8 awareness campaigns to be conduc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7 awareness campaigns held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tsok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Wonderboom</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chacha</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Glen cowi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Ngwanamatlang</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bintane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thapisa</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ttendance was poor at wonder bo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nformation did not reach to the community properly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721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Risk Reduction on lan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 </a:t>
                      </a:r>
                      <a:r>
                        <a:rPr b="0" lang="en-US" sz="1400" spc="-1" strike="noStrike">
                          <a:solidFill>
                            <a:srgbClr val="000000"/>
                          </a:solidFill>
                          <a:latin typeface="Times New Roman"/>
                          <a:ea typeface="SimSun"/>
                        </a:rPr>
                        <a:t>To identify  Risk  impact area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Water channeling constructions is complete at Phokoane (Mmakoshala)</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Lack of fund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90" name="Picture 25" descr=""/>
          <p:cNvPicPr/>
          <p:nvPr/>
        </p:nvPicPr>
        <p:blipFill>
          <a:blip r:embed="rId1"/>
          <a:stretch/>
        </p:blipFill>
        <p:spPr>
          <a:xfrm>
            <a:off x="785880" y="642960"/>
            <a:ext cx="1000080" cy="714240"/>
          </a:xfrm>
          <a:prstGeom prst="rect">
            <a:avLst/>
          </a:prstGeom>
          <a:ln w="0">
            <a:noFill/>
          </a:ln>
        </p:spPr>
      </p:pic>
      <p:sp>
        <p:nvSpPr>
          <p:cNvPr id="19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052D-4B10-4731-95E2-15124A0E9C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620640"/>
            <a:ext cx="82296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DISASTER MANAGEMENT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193" name=""/>
          <p:cNvGraphicFramePr/>
          <p:nvPr/>
        </p:nvGraphicFramePr>
        <p:xfrm>
          <a:off x="214200" y="1484280"/>
          <a:ext cx="8929800" cy="4630680"/>
        </p:xfrm>
        <a:graphic>
          <a:graphicData uri="http://schemas.openxmlformats.org/drawingml/2006/table">
            <a:tbl>
              <a:tblPr/>
              <a:tblGrid>
                <a:gridCol w="1168560"/>
                <a:gridCol w="1270080"/>
                <a:gridCol w="1299960"/>
                <a:gridCol w="1657440"/>
                <a:gridCol w="1766880"/>
                <a:gridCol w="176688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34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isaster Inciden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Well coordinated disaster manage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7 Fire cases</a:t>
                      </a:r>
                      <a:endParaRPr b="0" lang="en-US" sz="1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7 Structural collapse</a:t>
                      </a:r>
                      <a:endParaRPr b="0" lang="en-US" sz="1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8 Drowning cases</a:t>
                      </a:r>
                      <a:endParaRPr b="0" lang="en-US" sz="1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 Death caused by lighting</a:t>
                      </a:r>
                      <a:endParaRPr b="0" lang="en-US" sz="1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 Damaged RDP houses</a:t>
                      </a:r>
                      <a:endParaRPr b="0" lang="en-US" sz="1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 Heavy storm</a:t>
                      </a:r>
                      <a:endParaRPr b="0" lang="en-US" sz="1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5 Flood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hortage of material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720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rimary Health Car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 Awareness campaigns  conduc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 Awareness campaigns held at Phokoane clinic and Rietfontein clinic</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hortage of fund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94" name="Picture 25" descr=""/>
          <p:cNvPicPr/>
          <p:nvPr/>
        </p:nvPicPr>
        <p:blipFill>
          <a:blip r:embed="rId1"/>
          <a:stretch/>
        </p:blipFill>
        <p:spPr>
          <a:xfrm>
            <a:off x="785880" y="642960"/>
            <a:ext cx="1000080" cy="714240"/>
          </a:xfrm>
          <a:prstGeom prst="rect">
            <a:avLst/>
          </a:prstGeom>
          <a:ln w="0">
            <a:noFill/>
          </a:ln>
        </p:spPr>
      </p:pic>
      <p:sp>
        <p:nvSpPr>
          <p:cNvPr id="19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DD06-0E6D-4149-B03E-086943122B3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ubTitle"/>
          </p:nvPr>
        </p:nvSpPr>
        <p:spPr>
          <a:xfrm>
            <a:off x="762120" y="3765240"/>
            <a:ext cx="7696080" cy="20574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PRESNTATION 3</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STRATEGIC SUPPORT SERVICE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OFFICE OF THE MUNICIPAL MANAGER)</a:t>
            </a:r>
            <a:br>
              <a:rPr sz="2800"/>
            </a:br>
            <a:r>
              <a:rPr b="1" lang="en-US" sz="2800" spc="-1" strike="noStrike">
                <a:solidFill>
                  <a:srgbClr val="660000"/>
                </a:solidFill>
                <a:latin typeface="Arial"/>
              </a:rPr>
              <a:t> ANNUAL REPOR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2010/1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7" name="Picture 25" descr=""/>
          <p:cNvPicPr/>
          <p:nvPr/>
        </p:nvPicPr>
        <p:blipFill>
          <a:blip r:embed="rId1"/>
          <a:stretch/>
        </p:blipFill>
        <p:spPr>
          <a:xfrm>
            <a:off x="3571920" y="1428840"/>
            <a:ext cx="2071800" cy="1697040"/>
          </a:xfrm>
          <a:prstGeom prst="rect">
            <a:avLst/>
          </a:prstGeom>
          <a:ln w="0">
            <a:noFill/>
          </a:ln>
        </p:spPr>
      </p:pic>
      <p:sp>
        <p:nvSpPr>
          <p:cNvPr id="19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8457-E11F-4867-9D04-37D76FCADE9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476280"/>
            <a:ext cx="8229600" cy="93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PERFORMANCE AND LEGAL</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00" name=""/>
          <p:cNvGraphicFramePr/>
          <p:nvPr/>
        </p:nvGraphicFramePr>
        <p:xfrm>
          <a:off x="214200" y="1484280"/>
          <a:ext cx="8929800" cy="5238720"/>
        </p:xfrm>
        <a:graphic>
          <a:graphicData uri="http://schemas.openxmlformats.org/drawingml/2006/table">
            <a:tbl>
              <a:tblPr/>
              <a:tblGrid>
                <a:gridCol w="1168560"/>
                <a:gridCol w="1270080"/>
                <a:gridCol w="1299960"/>
                <a:gridCol w="1657440"/>
                <a:gridCol w="1914480"/>
                <a:gridCol w="1619280"/>
              </a:tblGrid>
              <a:tr h="575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22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Management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ment of  Performance agreements and staff commitme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Agreements for S57 employees developed/reviewed and commitments developed thus sign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agreements for 2011/2012 ready for signature and commitments reviewed. In 2010/2011 two directors signed performance agreeme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plans and personal developments plans for individual directors to be finalized based on SDBIP for 2011/2012.</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Appraisals for S57 not conduct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43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al Complianc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ing on  Legal Complianc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vant training be conducted on certain aspects  on legal complianc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n (10) staff members was trained for five(5) days about the impact of noncompliance and consideration of various legislative provisions on daily operation of the municipality.</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01" name="Picture 25" descr=""/>
          <p:cNvPicPr/>
          <p:nvPr/>
        </p:nvPicPr>
        <p:blipFill>
          <a:blip r:embed="rId1"/>
          <a:stretch/>
        </p:blipFill>
        <p:spPr>
          <a:xfrm>
            <a:off x="785880" y="642960"/>
            <a:ext cx="1000080" cy="714240"/>
          </a:xfrm>
          <a:prstGeom prst="rect">
            <a:avLst/>
          </a:prstGeom>
          <a:ln w="0">
            <a:noFill/>
          </a:ln>
        </p:spPr>
      </p:pic>
      <p:sp>
        <p:nvSpPr>
          <p:cNvPr id="20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56BB-096F-4A20-92DC-0C3DC9511CB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476280"/>
            <a:ext cx="8229600" cy="93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PERFORMANCE AND LEGAL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04" name=""/>
          <p:cNvGraphicFramePr/>
          <p:nvPr/>
        </p:nvGraphicFramePr>
        <p:xfrm>
          <a:off x="214200" y="1484280"/>
          <a:ext cx="8929800" cy="4248360"/>
        </p:xfrm>
        <a:graphic>
          <a:graphicData uri="http://schemas.openxmlformats.org/drawingml/2006/table">
            <a:tbl>
              <a:tblPr/>
              <a:tblGrid>
                <a:gridCol w="1168560"/>
                <a:gridCol w="1270080"/>
                <a:gridCol w="1299960"/>
                <a:gridCol w="1657440"/>
                <a:gridCol w="1766880"/>
                <a:gridCol w="176688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22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acity Building to and Maintenance of  Legal Unit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al support materials sourced and the unit capacitated on certain legal issu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n (10) staff members including two union members from SAMWU and IMATU respectively were trained on Disciplinary Procedu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24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05" name="Picture 25" descr=""/>
          <p:cNvPicPr/>
          <p:nvPr/>
        </p:nvPicPr>
        <p:blipFill>
          <a:blip r:embed="rId1"/>
          <a:stretch/>
        </p:blipFill>
        <p:spPr>
          <a:xfrm>
            <a:off x="785880" y="642960"/>
            <a:ext cx="1000080" cy="714240"/>
          </a:xfrm>
          <a:prstGeom prst="rect">
            <a:avLst/>
          </a:prstGeom>
          <a:ln w="0">
            <a:noFill/>
          </a:ln>
        </p:spPr>
      </p:pic>
      <p:sp>
        <p:nvSpPr>
          <p:cNvPr id="2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EB47-CEE8-4448-8C3E-655E30226A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PERFORMANCE AND LEGAL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08" name=""/>
          <p:cNvGraphicFramePr/>
          <p:nvPr/>
        </p:nvGraphicFramePr>
        <p:xfrm>
          <a:off x="214200" y="1484280"/>
          <a:ext cx="8929800" cy="5224320"/>
        </p:xfrm>
        <a:graphic>
          <a:graphicData uri="http://schemas.openxmlformats.org/drawingml/2006/table">
            <a:tbl>
              <a:tblPr/>
              <a:tblGrid>
                <a:gridCol w="1168560"/>
                <a:gridCol w="1270080"/>
                <a:gridCol w="1299960"/>
                <a:gridCol w="2059200"/>
                <a:gridCol w="1296720"/>
                <a:gridCol w="1835280"/>
              </a:tblGrid>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65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ment of By)Law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rtain Key By-Laws develop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were developed and awaiting public inputs and  publication.</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ste Management</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Trading</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eet Advertising</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Amenities Control</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isance Control</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ffic Control</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meteries Crematories.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79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Delegations and Council Standing Order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ions and Standing Orders reviewed and aligned with the current legislative provisions,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made and waiting to be taken to council.</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09" name="Picture 25" descr=""/>
          <p:cNvPicPr/>
          <p:nvPr/>
        </p:nvPicPr>
        <p:blipFill>
          <a:blip r:embed="rId1"/>
          <a:stretch/>
        </p:blipFill>
        <p:spPr>
          <a:xfrm>
            <a:off x="785880" y="642960"/>
            <a:ext cx="1000080" cy="714240"/>
          </a:xfrm>
          <a:prstGeom prst="rect">
            <a:avLst/>
          </a:prstGeom>
          <a:ln w="0">
            <a:noFill/>
          </a:ln>
        </p:spPr>
      </p:pic>
      <p:sp>
        <p:nvSpPr>
          <p:cNvPr id="21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8BF4-9194-4E96-B8CA-BE5A8C868DA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PERFORMANCE AND LEGAL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12" name=""/>
          <p:cNvGraphicFramePr/>
          <p:nvPr/>
        </p:nvGraphicFramePr>
        <p:xfrm>
          <a:off x="214200" y="1484280"/>
          <a:ext cx="8929800" cy="2938320"/>
        </p:xfrm>
        <a:graphic>
          <a:graphicData uri="http://schemas.openxmlformats.org/drawingml/2006/table">
            <a:tbl>
              <a:tblPr/>
              <a:tblGrid>
                <a:gridCol w="1168560"/>
                <a:gridCol w="1270080"/>
                <a:gridCol w="1299960"/>
                <a:gridCol w="1657440"/>
                <a:gridCol w="1766880"/>
                <a:gridCol w="1766880"/>
              </a:tblGrid>
              <a:tr h="576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36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tlement and attending to Legal Matter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pending legal cases be settl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ON case settled out of Cour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bl>
          </a:graphicData>
        </a:graphic>
      </p:graphicFrame>
      <p:pic>
        <p:nvPicPr>
          <p:cNvPr id="213" name="Picture 25" descr=""/>
          <p:cNvPicPr/>
          <p:nvPr/>
        </p:nvPicPr>
        <p:blipFill>
          <a:blip r:embed="rId1"/>
          <a:stretch/>
        </p:blipFill>
        <p:spPr>
          <a:xfrm>
            <a:off x="785880" y="642960"/>
            <a:ext cx="1000080" cy="714240"/>
          </a:xfrm>
          <a:prstGeom prst="rect">
            <a:avLst/>
          </a:prstGeom>
          <a:ln w="0">
            <a:noFill/>
          </a:ln>
        </p:spPr>
      </p:pic>
      <p:sp>
        <p:nvSpPr>
          <p:cNvPr id="21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4CB4-721B-4329-8140-69E2296844B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549000"/>
            <a:ext cx="8229600" cy="71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HRM SERVICES </a:t>
            </a:r>
            <a:br>
              <a:rPr sz="2400"/>
            </a:br>
            <a:r>
              <a:rPr b="0" lang="en-US" sz="2400" spc="-1" strike="noStrike">
                <a:solidFill>
                  <a:srgbClr val="660000"/>
                </a:solidFill>
                <a:latin typeface="Times New Roman"/>
              </a:rPr>
              <a:t>ANNUAL REPORT 2010/11</a:t>
            </a:r>
            <a:endParaRPr b="0" lang="en-US" sz="2400" spc="-1" strike="noStrike">
              <a:solidFill>
                <a:srgbClr val="420000"/>
              </a:solidFill>
              <a:latin typeface="Times New Roman"/>
            </a:endParaRPr>
          </a:p>
        </p:txBody>
      </p:sp>
      <p:graphicFrame>
        <p:nvGraphicFramePr>
          <p:cNvPr id="110" name=""/>
          <p:cNvGraphicFramePr/>
          <p:nvPr/>
        </p:nvGraphicFramePr>
        <p:xfrm>
          <a:off x="179280" y="1341360"/>
          <a:ext cx="8785440" cy="4630680"/>
        </p:xfrm>
        <a:graphic>
          <a:graphicData uri="http://schemas.openxmlformats.org/drawingml/2006/table">
            <a:tbl>
              <a:tblPr/>
              <a:tblGrid>
                <a:gridCol w="944640"/>
                <a:gridCol w="1300320"/>
                <a:gridCol w="1476360"/>
                <a:gridCol w="1903320"/>
                <a:gridCol w="1581120"/>
                <a:gridCol w="1579680"/>
              </a:tblGrid>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 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RM</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anagemen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electronic time management system in pla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per internal arrange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298600">
                <a:tc>
                  <a:txBody>
                    <a:bodyPr lIns="90000" rIns="90000" tIns="46800" bIns="46800" anchor="t">
                      <a:noAutofit/>
                    </a:bodyPr>
                    <a:p>
                      <a:pPr algn="just">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marL="343080" indent="-343080">
                        <a:lnSpc>
                          <a:spcPct val="120000"/>
                        </a:lnSpc>
                        <a:tabLst>
                          <a:tab algn="l" pos="0"/>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ff establishment reviewed and approv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fill all critical pos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proved posts =138 </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lled posts =81 </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quity status: (Males =45 &amp; Females =36 )</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sabled = 04</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cant posts =  57</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appointments = 13</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minations = 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ea typeface="Times New Roman"/>
                        </a:rPr>
                        <a:t>Acting section 57 Directors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8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marL="343080" indent="-343080">
                        <a:lnSpc>
                          <a:spcPct val="120000"/>
                        </a:lnSpc>
                        <a:tabLst>
                          <a:tab algn="l" pos="0"/>
                          <a:tab algn="l" pos="45720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marL="343080" indent="-343080">
                        <a:lnSpc>
                          <a:spcPct val="120000"/>
                        </a:lnSpc>
                        <a:tabLst>
                          <a:tab algn="l" pos="0"/>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fill all advertised Section 57 pos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tion 57 posts=6</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lled =2 </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le = 1/Female = 1</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sabled = 0</a:t>
                      </a:r>
                      <a:endParaRPr b="0" lang="en-US" sz="1200" spc="-1" strike="noStrike">
                        <a:solidFill>
                          <a:srgbClr val="000000"/>
                        </a:solidFill>
                        <a:latin typeface="Times New Roman"/>
                      </a:endParaRPr>
                    </a:p>
                    <a:p>
                      <a:pPr marL="343080" indent="-343080">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cant =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marL="343080" indent="-343080">
                        <a:lnSpc>
                          <a:spcPct val="120000"/>
                        </a:lnSpc>
                        <a:tabLst>
                          <a:tab algn="l" pos="0"/>
                          <a:tab algn="l" pos="457200"/>
                          <a:tab algn="l" pos="1647720"/>
                          <a:tab algn="l" pos="1828800"/>
                          <a:tab algn="l" pos="2743200"/>
                          <a:tab algn="l" pos="3657600"/>
                          <a:tab algn="l" pos="4572000"/>
                          <a:tab algn="l" pos="5486400"/>
                          <a:tab algn="l" pos="6400800"/>
                          <a:tab algn="l" pos="7315200"/>
                          <a:tab algn="l" pos="8229600"/>
                          <a:tab algn="l" pos="9144000"/>
                          <a:tab algn="l" pos="10058400"/>
                        </a:tabLst>
                      </a:pPr>
                      <a:fld id="{23D138D0-0A63-457A-BA2A-0CEB47A16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marL="343080" indent="-343080">
                        <a:lnSpc>
                          <a:spcPct val="120000"/>
                        </a:lnSpc>
                        <a:tabLst>
                          <a:tab algn="l" pos="0"/>
                          <a:tab algn="l" pos="45720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111" name="Picture 25" descr=""/>
          <p:cNvPicPr/>
          <p:nvPr/>
        </p:nvPicPr>
        <p:blipFill>
          <a:blip r:embed="rId1"/>
          <a:stretch/>
        </p:blipFill>
        <p:spPr>
          <a:xfrm>
            <a:off x="611280" y="549360"/>
            <a:ext cx="1000080" cy="714240"/>
          </a:xfrm>
          <a:prstGeom prst="rect">
            <a:avLst/>
          </a:prstGeom>
          <a:ln w="0">
            <a:noFill/>
          </a:ln>
        </p:spPr>
      </p:pic>
      <p:sp>
        <p:nvSpPr>
          <p:cNvPr id="112" name="Slide Number Placeholder 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18A3-6F3D-44D3-BD5F-EF76B8E61C7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PERFORMANCE AND LEGAL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16" name=""/>
          <p:cNvGraphicFramePr/>
          <p:nvPr/>
        </p:nvGraphicFramePr>
        <p:xfrm>
          <a:off x="214200" y="1484280"/>
          <a:ext cx="8929800" cy="4654440"/>
        </p:xfrm>
        <a:graphic>
          <a:graphicData uri="http://schemas.openxmlformats.org/drawingml/2006/table">
            <a:tbl>
              <a:tblPr/>
              <a:tblGrid>
                <a:gridCol w="1168560"/>
                <a:gridCol w="1270080"/>
                <a:gridCol w="1299960"/>
                <a:gridCol w="1657440"/>
                <a:gridCol w="1766880"/>
                <a:gridCol w="1766880"/>
              </a:tblGrid>
              <a:tr h="584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43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 Managemen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implement and constantly review the Risk Management Framework, policies, procedures, systems and pro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 management framework ,Risk management  strategy, Risk management plan and Risk management policy develop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 management framework, plan, strategy ,and policy ready to be approved/Adopt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63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duct risk assessmen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 departmental risk register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onal and Strategic risk assessment conduc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or attendance of risk assessment worksho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17" name="Picture 25" descr=""/>
          <p:cNvPicPr/>
          <p:nvPr/>
        </p:nvPicPr>
        <p:blipFill>
          <a:blip r:embed="rId1"/>
          <a:stretch/>
        </p:blipFill>
        <p:spPr>
          <a:xfrm>
            <a:off x="785880" y="642960"/>
            <a:ext cx="1000080" cy="714240"/>
          </a:xfrm>
          <a:prstGeom prst="rect">
            <a:avLst/>
          </a:prstGeom>
          <a:ln w="0">
            <a:noFill/>
          </a:ln>
        </p:spPr>
      </p:pic>
      <p:sp>
        <p:nvSpPr>
          <p:cNvPr id="21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C2FB-5558-49DE-A8A9-2840F5A735B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AUDIT COMMITTEE</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20" name=""/>
          <p:cNvGraphicFramePr/>
          <p:nvPr/>
        </p:nvGraphicFramePr>
        <p:xfrm>
          <a:off x="214200" y="1484280"/>
          <a:ext cx="8929800" cy="4103640"/>
        </p:xfrm>
        <a:graphic>
          <a:graphicData uri="http://schemas.openxmlformats.org/drawingml/2006/table">
            <a:tbl>
              <a:tblPr/>
              <a:tblGrid>
                <a:gridCol w="1168560"/>
                <a:gridCol w="1270080"/>
                <a:gridCol w="1299960"/>
                <a:gridCol w="1657440"/>
                <a:gridCol w="1766880"/>
                <a:gridCol w="1766880"/>
              </a:tblGrid>
              <a:tr h="82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327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dit Committe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dit committee meetings held and reports issued to the Council</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 ordinary Audit Committee meetings must be held and reports be issued to the council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 audit committee meeting were hel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members of the Audit Committee has relocated to Eastern cape</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dit committee members are not being paid for preparations </a:t>
                      </a:r>
                      <a:endParaRPr b="0" lang="en-US" sz="1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bers of the audit committee did not sign any contract with the Municipality</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bl>
          </a:graphicData>
        </a:graphic>
      </p:graphicFrame>
      <p:pic>
        <p:nvPicPr>
          <p:cNvPr id="221" name="Picture 25" descr=""/>
          <p:cNvPicPr/>
          <p:nvPr/>
        </p:nvPicPr>
        <p:blipFill>
          <a:blip r:embed="rId1"/>
          <a:stretch/>
        </p:blipFill>
        <p:spPr>
          <a:xfrm>
            <a:off x="785880" y="642960"/>
            <a:ext cx="1000080" cy="714240"/>
          </a:xfrm>
          <a:prstGeom prst="rect">
            <a:avLst/>
          </a:prstGeom>
          <a:ln w="0">
            <a:noFill/>
          </a:ln>
        </p:spPr>
      </p:pic>
      <p:sp>
        <p:nvSpPr>
          <p:cNvPr id="22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9917-F65C-444B-9E82-227ABDE725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INTERNAL AUDI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24" name=""/>
          <p:cNvGraphicFramePr/>
          <p:nvPr/>
        </p:nvGraphicFramePr>
        <p:xfrm>
          <a:off x="214200" y="1484280"/>
          <a:ext cx="8929800" cy="5249880"/>
        </p:xfrm>
        <a:graphic>
          <a:graphicData uri="http://schemas.openxmlformats.org/drawingml/2006/table">
            <a:tbl>
              <a:tblPr/>
              <a:tblGrid>
                <a:gridCol w="1168560"/>
                <a:gridCol w="1270080"/>
                <a:gridCol w="1299960"/>
                <a:gridCol w="1657440"/>
                <a:gridCol w="1766880"/>
                <a:gridCol w="1766880"/>
              </a:tblGrid>
              <a:tr h="581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65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al Audi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ment of Internal Audit polici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ed/Adopted Internal Audit charter, Audit Committee charter, Internal Audit Methodology, and Three year rolling plan and annual pla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dit committee charter, internal audit charter, Internal audit methodology and three year rolling plan and annual plan have been developed and approved/adopt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01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al Audi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artmental Internal Audit conducted (Audit Projec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udit all seven audit projects as per Internal Audit Pla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 projects have been audited and the fifth one is still in progre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dget constraints and understaffed internal audit uni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25" name="Picture 25" descr=""/>
          <p:cNvPicPr/>
          <p:nvPr/>
        </p:nvPicPr>
        <p:blipFill>
          <a:blip r:embed="rId1"/>
          <a:stretch/>
        </p:blipFill>
        <p:spPr>
          <a:xfrm>
            <a:off x="785880" y="642960"/>
            <a:ext cx="1000080" cy="714240"/>
          </a:xfrm>
          <a:prstGeom prst="rect">
            <a:avLst/>
          </a:prstGeom>
          <a:ln w="0">
            <a:noFill/>
          </a:ln>
        </p:spPr>
      </p:pic>
      <p:sp>
        <p:nvSpPr>
          <p:cNvPr id="22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0AA5-FDDD-4CB3-B31B-9BA7508537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2120" y="3765240"/>
            <a:ext cx="7696080" cy="20574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PRESENTATION 4</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INFRASTRUCTUR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DEVELOPMENT AND PLANNING</a:t>
            </a:r>
            <a:br>
              <a:rPr sz="2800"/>
            </a:br>
            <a:r>
              <a:rPr b="1" lang="en-US" sz="2800" spc="-1" strike="noStrike">
                <a:solidFill>
                  <a:srgbClr val="660000"/>
                </a:solidFill>
                <a:latin typeface="Arial"/>
              </a:rPr>
              <a:t> ANNUAL REPOR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2010/1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25" descr=""/>
          <p:cNvPicPr/>
          <p:nvPr/>
        </p:nvPicPr>
        <p:blipFill>
          <a:blip r:embed="rId1"/>
          <a:stretch/>
        </p:blipFill>
        <p:spPr>
          <a:xfrm>
            <a:off x="3571920" y="1428840"/>
            <a:ext cx="2071800" cy="1697040"/>
          </a:xfrm>
          <a:prstGeom prst="rect">
            <a:avLst/>
          </a:prstGeom>
          <a:ln w="0">
            <a:noFill/>
          </a:ln>
        </p:spPr>
      </p:pic>
      <p:sp>
        <p:nvSpPr>
          <p:cNvPr id="22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27CF-160C-4533-9E5E-4EF72C2A0064}"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WATER AND SANITATION</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31" name=""/>
          <p:cNvGraphicFramePr/>
          <p:nvPr/>
        </p:nvGraphicFramePr>
        <p:xfrm>
          <a:off x="214200" y="1484280"/>
          <a:ext cx="8748720" cy="5222880"/>
        </p:xfrm>
        <a:graphic>
          <a:graphicData uri="http://schemas.openxmlformats.org/drawingml/2006/table">
            <a:tbl>
              <a:tblPr/>
              <a:tblGrid>
                <a:gridCol w="1013040"/>
                <a:gridCol w="1011240"/>
                <a:gridCol w="110160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716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frastructure Development and Service Deliver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Water and sanit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onitor WSA's implementation of Projects within the Municipalit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472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ublic queries and requests submitted to WSA</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ll the queries and requests from the public are submitted to the District Municipalit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he District Municipality take time to respond to some of the queri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470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Water sector plan in pl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Update the existing Water Sector Pla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he District requested information from the ward committe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ome of the ward committees did not submit the information as reques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232" name="Picture 25" descr=""/>
          <p:cNvPicPr/>
          <p:nvPr/>
        </p:nvPicPr>
        <p:blipFill>
          <a:blip r:embed="rId1"/>
          <a:stretch/>
        </p:blipFill>
        <p:spPr>
          <a:xfrm>
            <a:off x="785880" y="642960"/>
            <a:ext cx="1000080" cy="714240"/>
          </a:xfrm>
          <a:prstGeom prst="rect">
            <a:avLst/>
          </a:prstGeom>
          <a:ln w="0">
            <a:noFill/>
          </a:ln>
        </p:spPr>
      </p:pic>
      <p:sp>
        <p:nvSpPr>
          <p:cNvPr id="23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3169-A3FE-4FA2-8296-A91D7258827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1125000"/>
            <a:ext cx="8229600" cy="2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ROADS AND STORM WATER</a:t>
            </a:r>
            <a:br>
              <a:rPr sz="2400"/>
            </a:br>
            <a:r>
              <a:rPr b="0" lang="en-US" sz="2400" spc="-1" strike="noStrike">
                <a:solidFill>
                  <a:srgbClr val="420000"/>
                </a:solidFill>
                <a:latin typeface="Times New Roman"/>
              </a:rPr>
              <a:t>                             </a:t>
            </a:r>
            <a:endParaRPr b="0" lang="en-US" sz="2400" spc="-1" strike="noStrike">
              <a:solidFill>
                <a:srgbClr val="420000"/>
              </a:solidFill>
              <a:latin typeface="Times New Roman"/>
            </a:endParaRPr>
          </a:p>
        </p:txBody>
      </p:sp>
      <p:graphicFrame>
        <p:nvGraphicFramePr>
          <p:cNvPr id="235" name=""/>
          <p:cNvGraphicFramePr/>
          <p:nvPr/>
        </p:nvGraphicFramePr>
        <p:xfrm>
          <a:off x="360360" y="1042920"/>
          <a:ext cx="8783640" cy="5289480"/>
        </p:xfrm>
        <a:graphic>
          <a:graphicData uri="http://schemas.openxmlformats.org/drawingml/2006/table">
            <a:tbl>
              <a:tblPr/>
              <a:tblGrid>
                <a:gridCol w="950760"/>
                <a:gridCol w="1081080"/>
                <a:gridCol w="1106640"/>
                <a:gridCol w="1130400"/>
                <a:gridCol w="1441440"/>
                <a:gridCol w="1536480"/>
                <a:gridCol w="1536840"/>
              </a:tblGrid>
              <a:tr h="663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4716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oads and Storm wat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roject implemented within specified budget &amp; time fram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oads and Bridges constructed as per project plan</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Hlalanikahle internal street has been completed and Phokoane road and storm water they are busy with the finalization snag list</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MU and Finance not agreeing on monthly expenditure due to different Financial years with the Department</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3154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mplementation of access bridges within specific budget &amp; time fram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4 access bridges constructed at various villages as per project plan( Maila Mapitsane-Mankotoane/Mashilo, Mathibeng access to graveyard, Ga-Selepe, Ntshong/Mammene and Motseleop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ll the bridges are under construction and they will be completed by the end of August 2011, except Mathibeng access bridge which the site has been handed over to the contractor on the 06/07/2011</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Under estimation of the quantities by the Engineers which results on request for additional amount to the project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36" name="Picture 25" descr=""/>
          <p:cNvPicPr/>
          <p:nvPr/>
        </p:nvPicPr>
        <p:blipFill>
          <a:blip r:embed="rId1"/>
          <a:stretch/>
        </p:blipFill>
        <p:spPr>
          <a:xfrm>
            <a:off x="684360" y="476280"/>
            <a:ext cx="1000080" cy="504720"/>
          </a:xfrm>
          <a:prstGeom prst="rect">
            <a:avLst/>
          </a:prstGeom>
          <a:ln w="0">
            <a:noFill/>
          </a:ln>
        </p:spPr>
      </p:pic>
      <p:sp>
        <p:nvSpPr>
          <p:cNvPr id="237"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150A-4B22-44F1-98A5-D8B7518BD2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ROADS AND STORM WATER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39" name=""/>
          <p:cNvGraphicFramePr/>
          <p:nvPr/>
        </p:nvGraphicFramePr>
        <p:xfrm>
          <a:off x="214200" y="1484280"/>
          <a:ext cx="8748720" cy="4989600"/>
        </p:xfrm>
        <a:graphic>
          <a:graphicData uri="http://schemas.openxmlformats.org/drawingml/2006/table">
            <a:tbl>
              <a:tblPr/>
              <a:tblGrid>
                <a:gridCol w="1013040"/>
                <a:gridCol w="799920"/>
                <a:gridCol w="1312920"/>
                <a:gridCol w="1125720"/>
                <a:gridCol w="1436400"/>
                <a:gridCol w="1530360"/>
                <a:gridCol w="1530360"/>
              </a:tblGrid>
              <a:tr h="52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0969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ommunication plan</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ubmission of 12 monthly reports to the accounting offic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he progress report submitted to the accounting Officer on a monthly basi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non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892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aintenance of existing Surfaced and Gravel road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Grading and maintenance of main graveled access roads/streets and sports field within the municipal area of Jurisdiction.</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07 wards with 14 sport field has been bladed (see the attached report)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Breakdown of machinery and most of the roads need regraveling.</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473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ehabilitation of R579 Jane-Furse to Nebo roa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he projects advertised for the contractor and evaluation report submit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he projects is on hold and roll over don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240" name="Picture 25" descr=""/>
          <p:cNvPicPr/>
          <p:nvPr/>
        </p:nvPicPr>
        <p:blipFill>
          <a:blip r:embed="rId1"/>
          <a:stretch/>
        </p:blipFill>
        <p:spPr>
          <a:xfrm>
            <a:off x="785880" y="642960"/>
            <a:ext cx="1000080" cy="714240"/>
          </a:xfrm>
          <a:prstGeom prst="rect">
            <a:avLst/>
          </a:prstGeom>
          <a:ln w="0">
            <a:noFill/>
          </a:ln>
        </p:spPr>
      </p:pic>
      <p:sp>
        <p:nvSpPr>
          <p:cNvPr id="24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245D-198E-49DD-9DDC-3D8189A9A5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ROADS AND STORM WATER..</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43" name=""/>
          <p:cNvGraphicFramePr/>
          <p:nvPr/>
        </p:nvGraphicFramePr>
        <p:xfrm>
          <a:off x="214200" y="1484280"/>
          <a:ext cx="8748720" cy="4734000"/>
        </p:xfrm>
        <a:graphic>
          <a:graphicData uri="http://schemas.openxmlformats.org/drawingml/2006/table">
            <a:tbl>
              <a:tblPr/>
              <a:tblGrid>
                <a:gridCol w="1013040"/>
                <a:gridCol w="799920"/>
                <a:gridCol w="1312920"/>
                <a:gridCol w="1125720"/>
                <a:gridCol w="1436400"/>
                <a:gridCol w="1530360"/>
                <a:gridCol w="1530360"/>
              </a:tblGrid>
              <a:tr h="52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aintenance of the Municipal  plant</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aintenance of the existing Municipal Plants as and when requir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he plants maintained as and when requir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aintenance period of the supplier expired and the Municipality need to advertise to appoint the other suppli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473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oads and Storm wat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mplement the internal access road and storm wat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ntrance of the existing access road from R579(Jane-Furse to Nebo) to Vergelegen C diver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he physical completion is at 70% and the completion date is the end July 2011</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Delays due to land ownership dispute and the supply of the material</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4716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nergy</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Free basic electricity to all registered indigent</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rovision of Free Basic Electricity as per the approved indigent regist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10025 indigents configured and only 7658 collected their tokens.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2367 beneficiaries not collecting their tokens. Unavailability on Eskom vending machine at some villag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244" name="Picture 25" descr=""/>
          <p:cNvPicPr/>
          <p:nvPr/>
        </p:nvPicPr>
        <p:blipFill>
          <a:blip r:embed="rId1"/>
          <a:stretch/>
        </p:blipFill>
        <p:spPr>
          <a:xfrm>
            <a:off x="785880" y="642960"/>
            <a:ext cx="1000080" cy="714240"/>
          </a:xfrm>
          <a:prstGeom prst="rect">
            <a:avLst/>
          </a:prstGeom>
          <a:ln w="0">
            <a:noFill/>
          </a:ln>
        </p:spPr>
      </p:pic>
      <p:sp>
        <p:nvSpPr>
          <p:cNvPr id="24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184C-6034-40BD-B628-21F57E8EA6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PERFORMANCE AND LEGAL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47" name=""/>
          <p:cNvGraphicFramePr/>
          <p:nvPr/>
        </p:nvGraphicFramePr>
        <p:xfrm>
          <a:off x="214200" y="1484280"/>
          <a:ext cx="8748720" cy="350532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47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onthly FBE reports submitted, analyzed and recommendations mad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2 reports submitted and analyz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onthly FBE reports submitted during district energy forum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4695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ercentage of Registered indigents collecting Toke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00 % Registered Indigents Collecting their Toke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Only 77% of the registered indigents are collecting their toke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egistered indigents not aware that they have to collect their tokens monthl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48" name="Picture 25" descr=""/>
          <p:cNvPicPr/>
          <p:nvPr/>
        </p:nvPicPr>
        <p:blipFill>
          <a:blip r:embed="rId1"/>
          <a:stretch/>
        </p:blipFill>
        <p:spPr>
          <a:xfrm>
            <a:off x="785880" y="642960"/>
            <a:ext cx="1000080" cy="714240"/>
          </a:xfrm>
          <a:prstGeom prst="rect">
            <a:avLst/>
          </a:prstGeom>
          <a:ln w="0">
            <a:noFill/>
          </a:ln>
        </p:spPr>
      </p:pic>
      <p:sp>
        <p:nvSpPr>
          <p:cNvPr id="24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D447-D8C8-40AE-96C4-9A3529E8F9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ELECTRICITY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51" name=""/>
          <p:cNvGraphicFramePr/>
          <p:nvPr/>
        </p:nvGraphicFramePr>
        <p:xfrm>
          <a:off x="214200" y="1484280"/>
          <a:ext cx="8748720" cy="526248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4896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umber of households electrifi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Electrification of 1414 households at various villages(Vergelegen C,Sekale, Mohwelere, Ntshong, Diphagane, Glen Cowie A &amp; B,Legaletlwa, Kolokotela, Kgapamadi, Ga- Mogashoa, Madibong next to clinic)</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414 households have been electrified and the contractors are busy with the finalization of works. Submission of the required information to Eskom so that the villages can be energiz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Eskom taking long time to energize the completed projects. Changes on scope of work by Eskom officials on sit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bl>
          </a:graphicData>
        </a:graphic>
      </p:graphicFrame>
      <p:pic>
        <p:nvPicPr>
          <p:cNvPr id="252" name="Picture 25" descr=""/>
          <p:cNvPicPr/>
          <p:nvPr/>
        </p:nvPicPr>
        <p:blipFill>
          <a:blip r:embed="rId1"/>
          <a:stretch/>
        </p:blipFill>
        <p:spPr>
          <a:xfrm>
            <a:off x="785880" y="642960"/>
            <a:ext cx="1000080" cy="714240"/>
          </a:xfrm>
          <a:prstGeom prst="rect">
            <a:avLst/>
          </a:prstGeom>
          <a:ln w="0">
            <a:noFill/>
          </a:ln>
        </p:spPr>
      </p:pic>
      <p:sp>
        <p:nvSpPr>
          <p:cNvPr id="25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B4D2-2317-453F-BE7F-825A6E0BB70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620280"/>
            <a:ext cx="82296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HRM SERVICES (CONTINUED) </a:t>
            </a:r>
            <a:br>
              <a:rPr sz="2400"/>
            </a:br>
            <a:r>
              <a:rPr b="0" lang="en-US" sz="2400" spc="-1" strike="noStrike">
                <a:solidFill>
                  <a:srgbClr val="660000"/>
                </a:solidFill>
                <a:latin typeface="Times New Roman"/>
              </a:rPr>
              <a:t>ANNUAL REPORT 2010/11</a:t>
            </a:r>
            <a:endParaRPr b="0" lang="en-US" sz="2400" spc="-1" strike="noStrike">
              <a:solidFill>
                <a:srgbClr val="420000"/>
              </a:solidFill>
              <a:latin typeface="Times New Roman"/>
            </a:endParaRPr>
          </a:p>
        </p:txBody>
      </p:sp>
      <p:graphicFrame>
        <p:nvGraphicFramePr>
          <p:cNvPr id="114" name=""/>
          <p:cNvGraphicFramePr/>
          <p:nvPr/>
        </p:nvGraphicFramePr>
        <p:xfrm>
          <a:off x="539640" y="1413000"/>
          <a:ext cx="8391600" cy="5267160"/>
        </p:xfrm>
        <a:graphic>
          <a:graphicData uri="http://schemas.openxmlformats.org/drawingml/2006/table">
            <a:tbl>
              <a:tblPr/>
              <a:tblGrid>
                <a:gridCol w="1005120"/>
                <a:gridCol w="1349280"/>
                <a:gridCol w="1509840"/>
                <a:gridCol w="1509480"/>
                <a:gridCol w="1508040"/>
                <a:gridCol w="1509840"/>
              </a:tblGrid>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 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ployment contracts filled by 02 Directo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contract signed =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ions =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eputy directors’ posts filled.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gn="just">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gn="just">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6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marL="343080" indent="-343080">
                        <a:lnSpc>
                          <a:spcPct val="120000"/>
                        </a:lnSpc>
                        <a:tabLst>
                          <a:tab algn="l" pos="0"/>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sions of  staff and Councilors reconcil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ncile pensions monthly.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nthly updates on pensions done.</a:t>
                      </a:r>
                      <a:endParaRPr b="0" lang="en-US" sz="1200" spc="-1" strike="noStrike">
                        <a:solidFill>
                          <a:srgbClr val="000000"/>
                        </a:solidFill>
                        <a:latin typeface="Times New Roman"/>
                      </a:endParaRPr>
                    </a:p>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sions queries  are resolv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ea typeface="Times New Roman"/>
                        </a:rPr>
                        <a:t>Non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53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marL="343080" indent="-343080">
                        <a:lnSpc>
                          <a:spcPct val="120000"/>
                        </a:lnSpc>
                        <a:tabLst>
                          <a:tab algn="l" pos="0"/>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R plan develop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earch on HR pl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118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marL="343080" indent="-343080" algn="just">
                        <a:lnSpc>
                          <a:spcPct val="120000"/>
                        </a:lnSpc>
                        <a:buClr>
                          <a:srgbClr val="000000"/>
                        </a:buClr>
                        <a:buFont typeface="Wingdings" charset="2"/>
                        <a:buChar char=""/>
                        <a:tabLst>
                          <a:tab algn="l" pos="45720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ob Evaluation  conducted and implement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gn="just">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nitor &amp; Evaluate compliance with SALGA job evaluati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progress as a result of disputes between SALGA and Unio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lay in dispute resolutio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53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R policies  reviewed</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lementation of adopted policies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iting for adoptio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nge of leadershi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115" name="Picture 25" descr=""/>
          <p:cNvPicPr/>
          <p:nvPr/>
        </p:nvPicPr>
        <p:blipFill>
          <a:blip r:embed="rId1"/>
          <a:stretch/>
        </p:blipFill>
        <p:spPr>
          <a:xfrm>
            <a:off x="611280" y="549360"/>
            <a:ext cx="1000080" cy="714240"/>
          </a:xfrm>
          <a:prstGeom prst="rect">
            <a:avLst/>
          </a:prstGeom>
          <a:ln w="0">
            <a:noFill/>
          </a:ln>
        </p:spPr>
      </p:pic>
      <p:sp>
        <p:nvSpPr>
          <p:cNvPr id="116" name="Slide Number Placeholder 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7CF6-F17F-4FED-AA6B-53ADD2701A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ELECTRICITY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55" name=""/>
          <p:cNvGraphicFramePr/>
          <p:nvPr/>
        </p:nvGraphicFramePr>
        <p:xfrm>
          <a:off x="214200" y="1484280"/>
          <a:ext cx="8748720" cy="4732200"/>
        </p:xfrm>
        <a:graphic>
          <a:graphicData uri="http://schemas.openxmlformats.org/drawingml/2006/table">
            <a:tbl>
              <a:tblPr/>
              <a:tblGrid>
                <a:gridCol w="1013040"/>
                <a:gridCol w="799920"/>
                <a:gridCol w="1312920"/>
                <a:gridCol w="1447920"/>
                <a:gridCol w="1224000"/>
                <a:gridCol w="1728720"/>
                <a:gridCol w="122220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2258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stallation of high mast ligh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High mast light installed around Jane-Furse area and artificial turf stadium</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oints identified and foundations erec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Eskom taking long time to quote the connection fee for the high mas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9419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High mast light installed on various villages( Schoornoord taxi rank, Malegale taxi rank, Masemola next to clinic, Vleisboom taxi rank, Mogaladi taxi rank, Apel cross taxi rank)</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High mast installed and waiting for installation of the transforme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Waiting for energisation date from Eskom before the installation of transforme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56" name="Picture 25" descr=""/>
          <p:cNvPicPr/>
          <p:nvPr/>
        </p:nvPicPr>
        <p:blipFill>
          <a:blip r:embed="rId1"/>
          <a:stretch/>
        </p:blipFill>
        <p:spPr>
          <a:xfrm>
            <a:off x="785880" y="642960"/>
            <a:ext cx="1000080" cy="714240"/>
          </a:xfrm>
          <a:prstGeom prst="rect">
            <a:avLst/>
          </a:prstGeom>
          <a:ln w="0">
            <a:noFill/>
          </a:ln>
        </p:spPr>
      </p:pic>
      <p:sp>
        <p:nvSpPr>
          <p:cNvPr id="25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2C21-954D-4D74-81F9-84E143D027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ELECTRICITY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59" name=""/>
          <p:cNvGraphicFramePr/>
          <p:nvPr/>
        </p:nvGraphicFramePr>
        <p:xfrm>
          <a:off x="214200" y="1484280"/>
          <a:ext cx="8748720" cy="227808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7139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aintenance of existing high mast and street ligh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Existing high mast and street lights be maintain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he service provider appointed to maintain the street lights and high mast as and when requir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ome of the street lights got hit by motor vehicl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bl>
          </a:graphicData>
        </a:graphic>
      </p:graphicFrame>
      <p:pic>
        <p:nvPicPr>
          <p:cNvPr id="260" name="Picture 25" descr=""/>
          <p:cNvPicPr/>
          <p:nvPr/>
        </p:nvPicPr>
        <p:blipFill>
          <a:blip r:embed="rId1"/>
          <a:stretch/>
        </p:blipFill>
        <p:spPr>
          <a:xfrm>
            <a:off x="785880" y="642960"/>
            <a:ext cx="1000080" cy="714240"/>
          </a:xfrm>
          <a:prstGeom prst="rect">
            <a:avLst/>
          </a:prstGeom>
          <a:ln w="0">
            <a:noFill/>
          </a:ln>
        </p:spPr>
      </p:pic>
      <p:sp>
        <p:nvSpPr>
          <p:cNvPr id="26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3B96-55CA-4FB2-A14A-FDA17BAEC78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TRANSPORT AND PMU</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63" name=""/>
          <p:cNvGraphicFramePr/>
          <p:nvPr/>
        </p:nvGraphicFramePr>
        <p:xfrm>
          <a:off x="214200" y="1484280"/>
          <a:ext cx="8748720" cy="448632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981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ranspor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TP Plan in pl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omplete Integrated Transport Plan in pl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TP completed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Waiting for adoption by the Counci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224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MU</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roject implementation within specified budget and time-fram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evelopment of effective project manage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mplementation plan develop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rojects not completed as per the pla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715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IG projects registered within time frame given by DPL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ommitment of 2011/2012 allocation as per DoRA</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5 projects registered and approved. commitment for 2011/2012 financial year has been submit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ong registration process of  the projec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264" name="Picture 25" descr=""/>
          <p:cNvPicPr/>
          <p:nvPr/>
        </p:nvPicPr>
        <p:blipFill>
          <a:blip r:embed="rId1"/>
          <a:stretch/>
        </p:blipFill>
        <p:spPr>
          <a:xfrm>
            <a:off x="785880" y="642960"/>
            <a:ext cx="1000080" cy="714240"/>
          </a:xfrm>
          <a:prstGeom prst="rect">
            <a:avLst/>
          </a:prstGeom>
          <a:ln w="0">
            <a:noFill/>
          </a:ln>
        </p:spPr>
      </p:pic>
      <p:sp>
        <p:nvSpPr>
          <p:cNvPr id="26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5609-1C83-4CCD-A6F9-F448754C41F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PMU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67" name=""/>
          <p:cNvGraphicFramePr/>
          <p:nvPr/>
        </p:nvGraphicFramePr>
        <p:xfrm>
          <a:off x="214200" y="1484280"/>
          <a:ext cx="8748720" cy="375120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96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anagement of all capital projects consultan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Ensure that the consultants implement projects as per service level agreemen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he projects are implemented as per the project pla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roject not completed in time as per the pla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2250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ommunication pla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2 Monthly reports submitted to the District and provi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ll the reports are submitted to the District and Province monthl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Finance and Technical not agreeing on the expenditur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68" name="Picture 25" descr=""/>
          <p:cNvPicPr/>
          <p:nvPr/>
        </p:nvPicPr>
        <p:blipFill>
          <a:blip r:embed="rId1"/>
          <a:stretch/>
        </p:blipFill>
        <p:spPr>
          <a:xfrm>
            <a:off x="785880" y="642960"/>
            <a:ext cx="1000080" cy="714240"/>
          </a:xfrm>
          <a:prstGeom prst="rect">
            <a:avLst/>
          </a:prstGeom>
          <a:ln w="0">
            <a:noFill/>
          </a:ln>
        </p:spPr>
      </p:pic>
      <p:sp>
        <p:nvSpPr>
          <p:cNvPr id="26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5EEF-185C-4395-82E5-AE9F7028444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HOUSING</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71" name=""/>
          <p:cNvGraphicFramePr/>
          <p:nvPr/>
        </p:nvGraphicFramePr>
        <p:xfrm>
          <a:off x="214200" y="1484280"/>
          <a:ext cx="8748720" cy="5227560"/>
        </p:xfrm>
        <a:graphic>
          <a:graphicData uri="http://schemas.openxmlformats.org/drawingml/2006/table">
            <a:tbl>
              <a:tblPr/>
              <a:tblGrid>
                <a:gridCol w="1013040"/>
                <a:gridCol w="799920"/>
                <a:gridCol w="1312920"/>
                <a:gridCol w="1125720"/>
                <a:gridCol w="1690560"/>
                <a:gridCol w="1440000"/>
                <a:gridCol w="1366560"/>
              </a:tblGrid>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807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Hous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pproval of Sector plan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ector plan approv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On-going  process with  assistance from the Distric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80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aintenance of the existing Municipal build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Existing municipal building be maintain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unicipal building maintained as and when requir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hortage of running wat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4709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crease office sp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Extension of the existing Municipal offic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he site plan submitted and the project will be advertised during 2011/2012 financial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147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efurbishment of Motlatle propert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efurbishment of the build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he contract documents to purchase the building has been submitted and waiting for paymen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72" name="Picture 25" descr=""/>
          <p:cNvPicPr/>
          <p:nvPr/>
        </p:nvPicPr>
        <p:blipFill>
          <a:blip r:embed="rId1"/>
          <a:stretch/>
        </p:blipFill>
        <p:spPr>
          <a:xfrm>
            <a:off x="785880" y="642960"/>
            <a:ext cx="1000080" cy="714240"/>
          </a:xfrm>
          <a:prstGeom prst="rect">
            <a:avLst/>
          </a:prstGeom>
          <a:ln w="0">
            <a:noFill/>
          </a:ln>
        </p:spPr>
      </p:pic>
      <p:sp>
        <p:nvSpPr>
          <p:cNvPr id="27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5592-2C81-4E80-8C88-7BDBAC28DCF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TOWNSHIP ESTABLISHME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75" name=""/>
          <p:cNvGraphicFramePr/>
          <p:nvPr/>
        </p:nvGraphicFramePr>
        <p:xfrm>
          <a:off x="214200" y="1484280"/>
          <a:ext cx="8748720" cy="448632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716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ownship Establish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patial Planning and Land use manage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 of site acquired from Makhuduthamaga Traditional Authorities for Town Establish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cquired site fully develop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ll technical processes (EIA, Geo-tech, township layout) are ongoing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rolonged land release proces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802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 of sites acquired for office expansion</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ll Identified sites acquired</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otlatle property has been acquired for the purpose of office expans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efurbishment and rehabilitation of the sit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2254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ezoning and Site Development</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Formal planning of all site targeted for development</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One site in Mohlarekoma already plann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and claims and lengthy approval process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276" name="Picture 25" descr=""/>
          <p:cNvPicPr/>
          <p:nvPr/>
        </p:nvPicPr>
        <p:blipFill>
          <a:blip r:embed="rId1"/>
          <a:stretch/>
        </p:blipFill>
        <p:spPr>
          <a:xfrm>
            <a:off x="785880" y="642960"/>
            <a:ext cx="1000080" cy="714240"/>
          </a:xfrm>
          <a:prstGeom prst="rect">
            <a:avLst/>
          </a:prstGeom>
          <a:ln w="0">
            <a:noFill/>
          </a:ln>
        </p:spPr>
      </p:pic>
      <p:sp>
        <p:nvSpPr>
          <p:cNvPr id="27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6A98-2972-4812-8819-A0BE118174F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UMS</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79" name=""/>
          <p:cNvGraphicFramePr/>
          <p:nvPr/>
        </p:nvGraphicFramePr>
        <p:xfrm>
          <a:off x="214200" y="1484280"/>
          <a:ext cx="8748720" cy="416736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4716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UMS in place and implemented</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UMS awareness seminar</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and use awareness seminar successfully held with all traditional leade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mplementation of the Land Use Management Schem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802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Geographic information system in place</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urchasing of GIS software and equipments</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istrict to implement GIS for all local Municipaliti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istrict to implement GIS for all local Municipaliti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09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DF Review</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DF reviewed, adopted and implemented</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DF Reviewed and awaiting Council adop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mplementation of the SDF</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280" name="Picture 25" descr=""/>
          <p:cNvPicPr/>
          <p:nvPr/>
        </p:nvPicPr>
        <p:blipFill>
          <a:blip r:embed="rId1"/>
          <a:stretch/>
        </p:blipFill>
        <p:spPr>
          <a:xfrm>
            <a:off x="785880" y="642960"/>
            <a:ext cx="1000080" cy="714240"/>
          </a:xfrm>
          <a:prstGeom prst="rect">
            <a:avLst/>
          </a:prstGeom>
          <a:ln w="0">
            <a:noFill/>
          </a:ln>
        </p:spPr>
      </p:pic>
      <p:sp>
        <p:nvSpPr>
          <p:cNvPr id="28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9795-46E0-4C69-A291-A3146231FFE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83" name=""/>
          <p:cNvGraphicFramePr/>
          <p:nvPr/>
        </p:nvGraphicFramePr>
        <p:xfrm>
          <a:off x="214200" y="1484280"/>
          <a:ext cx="8748720" cy="416736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22436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ED</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Building and Supporting the LED</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evelopment of the funding policy</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Funding policy in place, adopted and implemented</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raft Funding Policy available awaiting Council Adop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Establishment of the SMME support team</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22436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ourism Exhibition</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ourism Exhibition Center Erected in Jane Furse</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Exhibition Centre yet to be erec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Difficulty in identifying suitable land for the erection of the Exhibition Centr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22436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ourism Guide</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nnual production of 4 000 tourism guides</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4 000 tourism guides produced and publish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284" name="Picture 25" descr=""/>
          <p:cNvPicPr/>
          <p:nvPr/>
        </p:nvPicPr>
        <p:blipFill>
          <a:blip r:embed="rId1"/>
          <a:stretch/>
        </p:blipFill>
        <p:spPr>
          <a:xfrm>
            <a:off x="785880" y="642960"/>
            <a:ext cx="1000080" cy="714240"/>
          </a:xfrm>
          <a:prstGeom prst="rect">
            <a:avLst/>
          </a:prstGeom>
          <a:ln w="0">
            <a:noFill/>
          </a:ln>
        </p:spPr>
      </p:pic>
      <p:sp>
        <p:nvSpPr>
          <p:cNvPr id="28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2F13-177C-4738-ADFB-4E194D31617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87" name=""/>
          <p:cNvGraphicFramePr/>
          <p:nvPr/>
        </p:nvGraphicFramePr>
        <p:xfrm>
          <a:off x="214200" y="1484280"/>
          <a:ext cx="8748720" cy="448632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95876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and Scarping</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Branding of entrance for Municipal Investment and Marketing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3 entry points branded and 5 still under construc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engthy procurement processes. Community confusion on the role of entry points (branding) vs. boundari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20356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vestment and Marketing strategy implementation</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Branding, Marketing and Promotion of local economic products</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Brochure containing funded SMMEs has been compiled and branding/sign boards erected for SMMEs suppor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88" name="Picture 25" descr=""/>
          <p:cNvPicPr/>
          <p:nvPr/>
        </p:nvPicPr>
        <p:blipFill>
          <a:blip r:embed="rId1"/>
          <a:stretch/>
        </p:blipFill>
        <p:spPr>
          <a:xfrm>
            <a:off x="785880" y="642960"/>
            <a:ext cx="1000080" cy="714240"/>
          </a:xfrm>
          <a:prstGeom prst="rect">
            <a:avLst/>
          </a:prstGeom>
          <a:ln w="0">
            <a:noFill/>
          </a:ln>
        </p:spPr>
      </p:pic>
      <p:sp>
        <p:nvSpPr>
          <p:cNvPr id="28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9A9B-A5E1-4D8D-8ACE-3254163FE7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91" name=""/>
          <p:cNvGraphicFramePr/>
          <p:nvPr/>
        </p:nvGraphicFramePr>
        <p:xfrm>
          <a:off x="214200" y="1484280"/>
          <a:ext cx="8748720" cy="2724120"/>
        </p:xfrm>
        <a:graphic>
          <a:graphicData uri="http://schemas.openxmlformats.org/drawingml/2006/table">
            <a:tbl>
              <a:tblPr/>
              <a:tblGrid>
                <a:gridCol w="1013040"/>
                <a:gridCol w="799920"/>
                <a:gridCol w="1312920"/>
                <a:gridCol w="1125720"/>
                <a:gridCol w="1436400"/>
                <a:gridCol w="1530360"/>
                <a:gridCol w="153036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2247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 of SMMEs funded</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0 SMMEs funded</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Only 5 SMMEs identified and suppor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tegration of support services with other agencies and government departmen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349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Hawkers stalls</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 of stalls constructed</a:t>
                      </a:r>
                      <a:endParaRPr b="0" lang="en-US" sz="1400" spc="-1" strike="noStrike">
                        <a:solidFill>
                          <a:srgbClr val="000000"/>
                        </a:solidFill>
                        <a:latin typeface="Times New Roman"/>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0 Hawker stalls erected at Apel Cros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 running water and electricity connec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92" name="Picture 25" descr=""/>
          <p:cNvPicPr/>
          <p:nvPr/>
        </p:nvPicPr>
        <p:blipFill>
          <a:blip r:embed="rId1"/>
          <a:stretch/>
        </p:blipFill>
        <p:spPr>
          <a:xfrm>
            <a:off x="785880" y="642960"/>
            <a:ext cx="1000080" cy="714240"/>
          </a:xfrm>
          <a:prstGeom prst="rect">
            <a:avLst/>
          </a:prstGeom>
          <a:ln w="0">
            <a:noFill/>
          </a:ln>
        </p:spPr>
      </p:pic>
      <p:sp>
        <p:nvSpPr>
          <p:cNvPr id="29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1501-2058-4BE4-8F2E-A1BD144801F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549000"/>
            <a:ext cx="8229600" cy="71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HRM SERVICES (CONTINUED) </a:t>
            </a:r>
            <a:br>
              <a:rPr sz="2400"/>
            </a:br>
            <a:r>
              <a:rPr b="0" lang="en-US" sz="2400" spc="-1" strike="noStrike">
                <a:solidFill>
                  <a:srgbClr val="660000"/>
                </a:solidFill>
                <a:latin typeface="Times New Roman"/>
              </a:rPr>
              <a:t>ANNUAL REPORT 2010/11</a:t>
            </a:r>
            <a:endParaRPr b="0" lang="en-US" sz="2400" spc="-1" strike="noStrike">
              <a:solidFill>
                <a:srgbClr val="420000"/>
              </a:solidFill>
              <a:latin typeface="Times New Roman"/>
            </a:endParaRPr>
          </a:p>
        </p:txBody>
      </p:sp>
      <p:graphicFrame>
        <p:nvGraphicFramePr>
          <p:cNvPr id="118" name=""/>
          <p:cNvGraphicFramePr/>
          <p:nvPr/>
        </p:nvGraphicFramePr>
        <p:xfrm>
          <a:off x="179280" y="1484280"/>
          <a:ext cx="8677440" cy="3702240"/>
        </p:xfrm>
        <a:graphic>
          <a:graphicData uri="http://schemas.openxmlformats.org/drawingml/2006/table">
            <a:tbl>
              <a:tblPr/>
              <a:tblGrid>
                <a:gridCol w="1446480"/>
                <a:gridCol w="1446120"/>
                <a:gridCol w="1446120"/>
                <a:gridCol w="1446120"/>
                <a:gridCol w="1446480"/>
                <a:gridCol w="1446120"/>
              </a:tblGrid>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 CONTRAINT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86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velop &amp; Implement HR strategy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lement adopted HR strategy</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raft  HR strategy in plac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ea typeface="Times New Roman"/>
                        </a:rPr>
                        <a:t>Lack of capacity</a:t>
                      </a:r>
                      <a:endParaRPr b="0" lang="en-US" sz="1400" spc="-1" strike="noStrike">
                        <a:solidFill>
                          <a:srgbClr val="000000"/>
                        </a:solidFill>
                        <a:latin typeface="Times New Roman"/>
                      </a:endParaRPr>
                    </a:p>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nSpc>
                          <a:spcPct val="120000"/>
                        </a:lnSpc>
                        <a:tabLst>
                          <a:tab algn="l" pos="0"/>
                          <a:tab algn="l" pos="1647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958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HR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Municipal Bursary strategy implemen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 Bursary was suppose to be taken for 2011/2012</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6 new intake for 2011/2012</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Other 11 bursaries are progressing well, one completed BSC in Economic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imited amount of budget. Delay in selection verific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19" name="Picture 25" descr=""/>
          <p:cNvPicPr/>
          <p:nvPr/>
        </p:nvPicPr>
        <p:blipFill>
          <a:blip r:embed="rId1"/>
          <a:stretch/>
        </p:blipFill>
        <p:spPr>
          <a:xfrm>
            <a:off x="755640" y="620640"/>
            <a:ext cx="1000080" cy="714600"/>
          </a:xfrm>
          <a:prstGeom prst="rect">
            <a:avLst/>
          </a:prstGeom>
          <a:ln w="0">
            <a:noFill/>
          </a:ln>
        </p:spPr>
      </p:pic>
      <p:sp>
        <p:nvSpPr>
          <p:cNvPr id="120"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DD50-518D-4A42-9A82-757BA5C11B7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ubTitle"/>
          </p:nvPr>
        </p:nvSpPr>
        <p:spPr>
          <a:xfrm>
            <a:off x="762120" y="3765240"/>
            <a:ext cx="7696080" cy="20574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PRESENTATION 5</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BUDGET AND TREASURY</a:t>
            </a:r>
            <a:br>
              <a:rPr sz="2800"/>
            </a:br>
            <a:r>
              <a:rPr b="1" lang="en-US" sz="2800" spc="-1" strike="noStrike">
                <a:solidFill>
                  <a:srgbClr val="660000"/>
                </a:solidFill>
                <a:latin typeface="Arial"/>
              </a:rPr>
              <a:t> ANNUAL REPOR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Arial"/>
              </a:rPr>
              <a:t>2010/1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95" name="Picture 25" descr=""/>
          <p:cNvPicPr/>
          <p:nvPr/>
        </p:nvPicPr>
        <p:blipFill>
          <a:blip r:embed="rId1"/>
          <a:stretch/>
        </p:blipFill>
        <p:spPr>
          <a:xfrm>
            <a:off x="3571920" y="1428840"/>
            <a:ext cx="2071800" cy="1697040"/>
          </a:xfrm>
          <a:prstGeom prst="rect">
            <a:avLst/>
          </a:prstGeom>
          <a:ln w="0">
            <a:noFill/>
          </a:ln>
        </p:spPr>
      </p:pic>
      <p:sp>
        <p:nvSpPr>
          <p:cNvPr id="29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DB81-43F9-49B0-B79E-733541B3346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298" name=""/>
          <p:cNvGraphicFramePr/>
          <p:nvPr/>
        </p:nvGraphicFramePr>
        <p:xfrm>
          <a:off x="324000" y="1298520"/>
          <a:ext cx="8389800" cy="5494320"/>
        </p:xfrm>
        <a:graphic>
          <a:graphicData uri="http://schemas.openxmlformats.org/drawingml/2006/table">
            <a:tbl>
              <a:tblPr/>
              <a:tblGrid>
                <a:gridCol w="1176120"/>
                <a:gridCol w="1271520"/>
                <a:gridCol w="1184400"/>
                <a:gridCol w="1085760"/>
                <a:gridCol w="1584360"/>
                <a:gridCol w="2087640"/>
              </a:tblGrid>
              <a:tr h="6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63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MFMA Institutional Compl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797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Budget and Treasury Offi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Have all posts fill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All vacant positions were fill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Asset and Logistic Officer resign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appoint Debtors Clerk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2078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Audit Committe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marL="44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To appoi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Appointed and Functiona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have at least four meetings per annum.</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12272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Internal Audit Un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marL="442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Have unit established and functiona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One officer appoin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Only one Person in the un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appoint.</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299" name="Picture 25" descr=""/>
          <p:cNvPicPr/>
          <p:nvPr/>
        </p:nvPicPr>
        <p:blipFill>
          <a:blip r:embed="rId1"/>
          <a:stretch/>
        </p:blipFill>
        <p:spPr>
          <a:xfrm>
            <a:off x="755640" y="549360"/>
            <a:ext cx="1000080" cy="714240"/>
          </a:xfrm>
          <a:prstGeom prst="rect">
            <a:avLst/>
          </a:prstGeom>
          <a:ln w="0">
            <a:noFill/>
          </a:ln>
        </p:spPr>
      </p:pic>
      <p:sp>
        <p:nvSpPr>
          <p:cNvPr id="30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C2D4-8AFD-484B-8335-C8DBC00AE4E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02" name=""/>
          <p:cNvGraphicFramePr/>
          <p:nvPr/>
        </p:nvGraphicFramePr>
        <p:xfrm>
          <a:off x="324000" y="1298520"/>
          <a:ext cx="8389800" cy="2357640"/>
        </p:xfrm>
        <a:graphic>
          <a:graphicData uri="http://schemas.openxmlformats.org/drawingml/2006/table">
            <a:tbl>
              <a:tblPr/>
              <a:tblGrid>
                <a:gridCol w="1176120"/>
                <a:gridCol w="1271520"/>
                <a:gridCol w="1184400"/>
                <a:gridCol w="1085760"/>
                <a:gridCol w="1584360"/>
                <a:gridCol w="2087640"/>
              </a:tblGrid>
              <a:tr h="6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Fraud Prevention and Anti Corruption mechanism and strategie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have policy in pl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he policy has been compiled and submitted to the Acting Municipal Manag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he Acting Municipal Manager  to table the policy to the Council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Ensure policies are approved in tim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bl>
          </a:graphicData>
        </a:graphic>
      </p:graphicFrame>
      <p:pic>
        <p:nvPicPr>
          <p:cNvPr id="303" name="Picture 25" descr=""/>
          <p:cNvPicPr/>
          <p:nvPr/>
        </p:nvPicPr>
        <p:blipFill>
          <a:blip r:embed="rId1"/>
          <a:stretch/>
        </p:blipFill>
        <p:spPr>
          <a:xfrm>
            <a:off x="755640" y="549360"/>
            <a:ext cx="1000080" cy="714240"/>
          </a:xfrm>
          <a:prstGeom prst="rect">
            <a:avLst/>
          </a:prstGeom>
          <a:ln w="0">
            <a:noFill/>
          </a:ln>
        </p:spPr>
      </p:pic>
      <p:sp>
        <p:nvSpPr>
          <p:cNvPr id="3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DCCA-802B-44E5-AE53-0BAFB37F145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06" name=""/>
          <p:cNvGraphicFramePr/>
          <p:nvPr/>
        </p:nvGraphicFramePr>
        <p:xfrm>
          <a:off x="324000" y="1298520"/>
          <a:ext cx="8569080" cy="4937040"/>
        </p:xfrm>
        <a:graphic>
          <a:graphicData uri="http://schemas.openxmlformats.org/drawingml/2006/table">
            <a:tbl>
              <a:tblPr/>
              <a:tblGrid>
                <a:gridCol w="1201680"/>
                <a:gridCol w="1298520"/>
                <a:gridCol w="1324080"/>
                <a:gridCol w="882360"/>
                <a:gridCol w="1729080"/>
                <a:gridCol w="2133360"/>
              </a:tblGrid>
              <a:tr h="549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LANNED INTERVENTION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ea typeface="Times New Roman"/>
                        </a:rPr>
                        <a:t>Targets 2010/2011</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ea typeface="Times New Roman"/>
                        </a:rPr>
                        <a:t>Progress made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ea typeface="Times New Roman"/>
                        </a:rPr>
                        <a:t>Varianc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ea typeface="Times New Roman"/>
                        </a:rPr>
                        <a:t>Challenges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ea typeface="Times New Roman"/>
                        </a:rPr>
                        <a:t>Strategic intervention</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4387680">
                <a:tc>
                  <a:txBody>
                    <a:bodyPr lIns="114480" rIns="114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Supply chain management  : Acquisition Managemen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y Chain Management: Asset and Logistic Management</a:t>
                      </a:r>
                      <a:endParaRPr b="0" lang="en-US" sz="1200" spc="-1" strike="noStrike">
                        <a:solidFill>
                          <a:srgbClr val="000000"/>
                        </a:solidFill>
                        <a:latin typeface="Times New Roman"/>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To render the service in accordance with the approved IDP/Budget 2010/2011.Safeguard the assets of the Municipality. Stock Coun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To compile compliant Asset Regist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To conduct stock count</a:t>
                      </a:r>
                      <a:endParaRPr b="0" lang="en-US" sz="1200" spc="-1" strike="noStrike">
                        <a:solidFill>
                          <a:srgbClr val="000000"/>
                        </a:solidFill>
                        <a:latin typeface="Times New Roman"/>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Twenty projects (20) Projects were awarded. (See attached SCM report)-Annexure 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jects ranging from R100 000 to R200 000 were also shown on the SCM repor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t Register is Compiled in accordance with GRAP 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ock Counting was performed on the 28,29&amp; 30 of June 2011 in accordance with GRAP 12</a:t>
                      </a:r>
                      <a:endParaRPr b="0" lang="en-US" sz="1200" spc="-1" strike="noStrike">
                        <a:solidFill>
                          <a:srgbClr val="000000"/>
                        </a:solidFill>
                        <a:latin typeface="Times New Roman"/>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Movement of assets to other offices without informing Budget &amp; Treasury Off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ding over of projects without notifying Budget &amp; Treasury office</a:t>
                      </a:r>
                      <a:endParaRPr b="0" lang="en-US" sz="1200" spc="-1" strike="noStrike">
                        <a:solidFill>
                          <a:srgbClr val="000000"/>
                        </a:solidFill>
                        <a:latin typeface="Times New Roman"/>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To inform Budget &amp; Treasury of any movement in order to fill in Asset Transfer Form for the purpose of updating Asset regist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 handing over of the projects Budget &amp; treasury should form part of the handing over.</a:t>
                      </a:r>
                      <a:endParaRPr b="0" lang="en-US" sz="1200" spc="-1" strike="noStrike">
                        <a:solidFill>
                          <a:srgbClr val="000000"/>
                        </a:solidFill>
                        <a:latin typeface="Times New Roman"/>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bl>
          </a:graphicData>
        </a:graphic>
      </p:graphicFrame>
      <p:pic>
        <p:nvPicPr>
          <p:cNvPr id="307" name="Picture 25" descr=""/>
          <p:cNvPicPr/>
          <p:nvPr/>
        </p:nvPicPr>
        <p:blipFill>
          <a:blip r:embed="rId1"/>
          <a:stretch/>
        </p:blipFill>
        <p:spPr>
          <a:xfrm>
            <a:off x="611280" y="549360"/>
            <a:ext cx="1000080" cy="714240"/>
          </a:xfrm>
          <a:prstGeom prst="rect">
            <a:avLst/>
          </a:prstGeom>
          <a:ln w="0">
            <a:noFill/>
          </a:ln>
        </p:spPr>
      </p:pic>
      <p:sp>
        <p:nvSpPr>
          <p:cNvPr id="30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55F8-4BC5-44F0-9765-74133D167C8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10" name=""/>
          <p:cNvGraphicFramePr/>
          <p:nvPr/>
        </p:nvGraphicFramePr>
        <p:xfrm>
          <a:off x="179280" y="1298520"/>
          <a:ext cx="8712360" cy="5546880"/>
        </p:xfrm>
        <a:graphic>
          <a:graphicData uri="http://schemas.openxmlformats.org/drawingml/2006/table">
            <a:tbl>
              <a:tblPr/>
              <a:tblGrid>
                <a:gridCol w="1220760"/>
                <a:gridCol w="1322640"/>
                <a:gridCol w="1560240"/>
                <a:gridCol w="720720"/>
                <a:gridCol w="1719360"/>
                <a:gridCol w="2168640"/>
              </a:tblGrid>
              <a:tr h="6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mbria"/>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963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Implementation of valuation roll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Full Implementation of MPRA</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Partially implement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Municipality collecting</a:t>
                      </a:r>
                      <a:r>
                        <a:rPr b="0" lang="en-US" sz="1400" spc="-1" strike="noStrike">
                          <a:solidFill>
                            <a:srgbClr val="000000"/>
                          </a:solidFill>
                          <a:latin typeface="Times New Roman"/>
                          <a:ea typeface="Times New Roman"/>
                        </a:rPr>
                        <a:t> </a:t>
                      </a:r>
                      <a:r>
                        <a:rPr b="0" lang="en-GB" sz="1400" spc="-1" strike="noStrike">
                          <a:solidFill>
                            <a:srgbClr val="000000"/>
                          </a:solidFill>
                          <a:latin typeface="Cambria"/>
                          <a:ea typeface="Times New Roman"/>
                        </a:rPr>
                        <a:t>Draft By-laws sent to DLG&amp;H for assistance on Gazett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Departments not paying at al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Engage our Debt Collecto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9433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Revenues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enhancement strateg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To have the strategy in place</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To perform reconcilia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Strategy develop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All reconciliations were monthly performed and Traffic revenue were performed dail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ebo Traffic Station still in process to be open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Cashiers still to be appoint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Appointment of cashiers without the knowledge of Budget and Treasury.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Ongoing training.</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Issuing tax bills in advance.</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Ensure existence of debtors.</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Monthly reconciliation of debtors and DORA.</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ebo Traffic Station to be open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appoint Cashiers that are computer literate and trustworth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311" name="Picture 25" descr=""/>
          <p:cNvPicPr/>
          <p:nvPr/>
        </p:nvPicPr>
        <p:blipFill>
          <a:blip r:embed="rId1"/>
          <a:stretch/>
        </p:blipFill>
        <p:spPr>
          <a:xfrm>
            <a:off x="611280" y="549360"/>
            <a:ext cx="1000080" cy="714240"/>
          </a:xfrm>
          <a:prstGeom prst="rect">
            <a:avLst/>
          </a:prstGeom>
          <a:ln w="0">
            <a:noFill/>
          </a:ln>
        </p:spPr>
      </p:pic>
      <p:sp>
        <p:nvSpPr>
          <p:cNvPr id="3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55AF-D4F5-457E-9CA0-9D372C720C1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14" name=""/>
          <p:cNvGraphicFramePr/>
          <p:nvPr/>
        </p:nvGraphicFramePr>
        <p:xfrm>
          <a:off x="250920" y="1341360"/>
          <a:ext cx="8713800" cy="4321080"/>
        </p:xfrm>
        <a:graphic>
          <a:graphicData uri="http://schemas.openxmlformats.org/drawingml/2006/table">
            <a:tbl>
              <a:tblPr/>
              <a:tblGrid>
                <a:gridCol w="1222200"/>
                <a:gridCol w="1320840"/>
                <a:gridCol w="1562040"/>
                <a:gridCol w="720720"/>
                <a:gridCol w="1719360"/>
                <a:gridCol w="2168640"/>
              </a:tblGrid>
              <a:tr h="63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47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mount of revenue collected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 193,023,366.75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167,514,746.63</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25,508,620.1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partments not paying.</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Some of our businesses no longer operat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ngage our debt collector.</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rite off businesses no longer operat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225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bt reduction polic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o have the policy in place and adopted by the counci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bt collection and credit control policy developed and adopted by counci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o adhere to the policy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9824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ercentage reduction outstanding debtor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0.0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79%</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lients not pay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plementation of the credit control &amp; Debt collection policy.</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ngage our Debt Collecto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315" name="Picture 25" descr=""/>
          <p:cNvPicPr/>
          <p:nvPr/>
        </p:nvPicPr>
        <p:blipFill>
          <a:blip r:embed="rId1"/>
          <a:stretch/>
        </p:blipFill>
        <p:spPr>
          <a:xfrm>
            <a:off x="611280" y="549360"/>
            <a:ext cx="1000080" cy="714240"/>
          </a:xfrm>
          <a:prstGeom prst="rect">
            <a:avLst/>
          </a:prstGeom>
          <a:ln w="0">
            <a:noFill/>
          </a:ln>
        </p:spPr>
      </p:pic>
      <p:sp>
        <p:nvSpPr>
          <p:cNvPr id="3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ACED-4812-4B6A-A3D5-5B2C2A7A6FF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18" name=""/>
          <p:cNvGraphicFramePr/>
          <p:nvPr/>
        </p:nvGraphicFramePr>
        <p:xfrm>
          <a:off x="250920" y="1341360"/>
          <a:ext cx="8713800" cy="5056200"/>
        </p:xfrm>
        <a:graphic>
          <a:graphicData uri="http://schemas.openxmlformats.org/drawingml/2006/table">
            <a:tbl>
              <a:tblPr/>
              <a:tblGrid>
                <a:gridCol w="1222200"/>
                <a:gridCol w="1803600"/>
                <a:gridCol w="1366560"/>
                <a:gridCol w="865440"/>
                <a:gridCol w="1287360"/>
                <a:gridCol w="2168640"/>
              </a:tblGrid>
              <a:tr h="63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717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Expenditure Manage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spend as plann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perform creditors reconciliation</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perform salaries reconciliation</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perform third parties reconcili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See attached summary of the budget</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Complet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Complet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Comple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See attached summary budget report – Annexure B.</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Slow spending during the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adhere to the departmental Service Delivery and Budget Implementation Pla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6985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Cash flow manage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Perform all reconciliations</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o reduce eight bank accounts to Four bank Accounts namely, Primary(Main)Account, Projects Account, Investment Account and Salaries Bank Accou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Complet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The Accounts were closed and remained with Four bank Accoun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one</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one</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Cashiers to understand their roles.</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Safeguard the assets of the Municipalit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319" name="Picture 25" descr=""/>
          <p:cNvPicPr/>
          <p:nvPr/>
        </p:nvPicPr>
        <p:blipFill>
          <a:blip r:embed="rId1"/>
          <a:stretch/>
        </p:blipFill>
        <p:spPr>
          <a:xfrm>
            <a:off x="611280" y="549360"/>
            <a:ext cx="1000080" cy="714240"/>
          </a:xfrm>
          <a:prstGeom prst="rect">
            <a:avLst/>
          </a:prstGeom>
          <a:ln w="0">
            <a:noFill/>
          </a:ln>
        </p:spPr>
      </p:pic>
      <p:sp>
        <p:nvSpPr>
          <p:cNvPr id="3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75F3-A637-4808-B4D3-632A75CAD54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22" name=""/>
          <p:cNvGraphicFramePr/>
          <p:nvPr/>
        </p:nvGraphicFramePr>
        <p:xfrm>
          <a:off x="250920" y="1341360"/>
          <a:ext cx="8713800" cy="5502240"/>
        </p:xfrm>
        <a:graphic>
          <a:graphicData uri="http://schemas.openxmlformats.org/drawingml/2006/table">
            <a:tbl>
              <a:tblPr/>
              <a:tblGrid>
                <a:gridCol w="1222200"/>
                <a:gridCol w="1803600"/>
                <a:gridCol w="1366560"/>
                <a:gridCol w="865440"/>
                <a:gridCol w="1287360"/>
                <a:gridCol w="2168640"/>
              </a:tblGrid>
              <a:tr h="63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9367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apital Expenditur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 83,673,907.68</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55,315,627.69</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28,358,280.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lectricity Projec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o comply with GRAP 17. To accrue the remaining bal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81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pairs and maintenance provision in pl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9,510,990.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7,084,321.69</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2,426,668.3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Non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o Accrue the remaining bal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944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sset register in place and upda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o have updated asset regist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municipality developed the GRAP compliant asset register on their own.</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nnexure C.</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Delloitte and Touch understated the assets of the municipalit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lectricity Projects that do not belong to the Municipality. As local Municipality are not licensed to execute electricity function.</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nadequate staff</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o have a meeting with the Top management of Eskom.</a:t>
                      </a:r>
                      <a:r>
                        <a:rPr b="0" lang="en-US"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Eskom to sign Acknowledgement of Debt for the Municipality.</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o appoint Asset Accountant before the end of September 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323" name="Picture 25" descr=""/>
          <p:cNvPicPr/>
          <p:nvPr/>
        </p:nvPicPr>
        <p:blipFill>
          <a:blip r:embed="rId1"/>
          <a:stretch/>
        </p:blipFill>
        <p:spPr>
          <a:xfrm>
            <a:off x="611280" y="549360"/>
            <a:ext cx="1000080" cy="714240"/>
          </a:xfrm>
          <a:prstGeom prst="rect">
            <a:avLst/>
          </a:prstGeom>
          <a:ln w="0">
            <a:noFill/>
          </a:ln>
        </p:spPr>
      </p:pic>
      <p:sp>
        <p:nvSpPr>
          <p:cNvPr id="32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553E-A5B6-4DA7-A503-B69ABD0F5D5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26" name=""/>
          <p:cNvGraphicFramePr/>
          <p:nvPr/>
        </p:nvGraphicFramePr>
        <p:xfrm>
          <a:off x="250920" y="1341360"/>
          <a:ext cx="8713800" cy="5246640"/>
        </p:xfrm>
        <a:graphic>
          <a:graphicData uri="http://schemas.openxmlformats.org/drawingml/2006/table">
            <a:tbl>
              <a:tblPr/>
              <a:tblGrid>
                <a:gridCol w="1222200"/>
                <a:gridCol w="1803600"/>
                <a:gridCol w="1511280"/>
                <a:gridCol w="863640"/>
                <a:gridCol w="1368360"/>
                <a:gridCol w="1944720"/>
              </a:tblGrid>
              <a:tr h="63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27338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bmission of Financial Statements on tim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ave the statements submitted on/before 31/08/2011</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mpiled the Annual Financial Statement internally.</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Submitted Draft Annual Financial Statement to the Executive Committee on the 19</a:t>
                      </a:r>
                      <a:r>
                        <a:rPr b="0" lang="en-GB" sz="1200" spc="-1" strike="noStrike" baseline="30000">
                          <a:solidFill>
                            <a:srgbClr val="000000"/>
                          </a:solidFill>
                          <a:latin typeface="Times New Roman"/>
                          <a:ea typeface="Times New Roman"/>
                        </a:rPr>
                        <a:t>th</a:t>
                      </a:r>
                      <a:r>
                        <a:rPr b="0" lang="en-GB" sz="1200" spc="-1" strike="noStrike">
                          <a:solidFill>
                            <a:srgbClr val="000000"/>
                          </a:solidFill>
                          <a:latin typeface="Times New Roman"/>
                          <a:ea typeface="Times New Roman"/>
                        </a:rPr>
                        <a:t>  July 2011 and to the Audit Committee on the 20</a:t>
                      </a:r>
                      <a:r>
                        <a:rPr b="0" lang="en-GB" sz="1200" spc="-1" strike="noStrike" baseline="30000">
                          <a:solidFill>
                            <a:srgbClr val="000000"/>
                          </a:solidFill>
                          <a:latin typeface="Times New Roman"/>
                          <a:ea typeface="Times New Roman"/>
                        </a:rPr>
                        <a:t>th</a:t>
                      </a:r>
                      <a:r>
                        <a:rPr b="0" lang="en-GB" sz="1200" spc="-1" strike="noStrike">
                          <a:solidFill>
                            <a:srgbClr val="000000"/>
                          </a:solidFill>
                          <a:latin typeface="Times New Roman"/>
                          <a:ea typeface="Times New Roman"/>
                        </a:rPr>
                        <a:t>  July 2011 for them to review</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nnexure 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ntingent liabilities not receiving reliable information from Legal Services.</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ctricity and Water Projects do not  belong to the asset register of the Municipality</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 transfer water projects to the District and electricity to Eskom</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367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partment of Minerals and Energ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9363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ME amount alloca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5,000.000.0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5,000.000.0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il</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327" name="Picture 25" descr=""/>
          <p:cNvPicPr/>
          <p:nvPr/>
        </p:nvPicPr>
        <p:blipFill>
          <a:blip r:embed="rId1"/>
          <a:stretch/>
        </p:blipFill>
        <p:spPr>
          <a:xfrm>
            <a:off x="611280" y="549360"/>
            <a:ext cx="1000080" cy="714240"/>
          </a:xfrm>
          <a:prstGeom prst="rect">
            <a:avLst/>
          </a:prstGeom>
          <a:ln w="0">
            <a:noFill/>
          </a:ln>
        </p:spPr>
      </p:pic>
      <p:sp>
        <p:nvSpPr>
          <p:cNvPr id="3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0AFC-EF77-422D-A822-E2F945AC8A4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30" name=""/>
          <p:cNvGraphicFramePr/>
          <p:nvPr/>
        </p:nvGraphicFramePr>
        <p:xfrm>
          <a:off x="250920" y="1341360"/>
          <a:ext cx="8713800" cy="1576440"/>
        </p:xfrm>
        <a:graphic>
          <a:graphicData uri="http://schemas.openxmlformats.org/drawingml/2006/table">
            <a:tbl>
              <a:tblPr/>
              <a:tblGrid>
                <a:gridCol w="1222200"/>
                <a:gridCol w="1803600"/>
                <a:gridCol w="1511280"/>
                <a:gridCol w="863640"/>
                <a:gridCol w="1368360"/>
                <a:gridCol w="1944720"/>
              </a:tblGrid>
              <a:tr h="63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9367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DME expenditure to dat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R5,000.000.0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R5,000,000.0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Nil</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bl>
          </a:graphicData>
        </a:graphic>
      </p:graphicFrame>
      <p:pic>
        <p:nvPicPr>
          <p:cNvPr id="331" name="Picture 25" descr=""/>
          <p:cNvPicPr/>
          <p:nvPr/>
        </p:nvPicPr>
        <p:blipFill>
          <a:blip r:embed="rId1"/>
          <a:stretch/>
        </p:blipFill>
        <p:spPr>
          <a:xfrm>
            <a:off x="611280" y="549360"/>
            <a:ext cx="1000080" cy="714240"/>
          </a:xfrm>
          <a:prstGeom prst="rect">
            <a:avLst/>
          </a:prstGeom>
          <a:ln w="0">
            <a:noFill/>
          </a:ln>
        </p:spPr>
      </p:pic>
      <p:sp>
        <p:nvSpPr>
          <p:cNvPr id="33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BC73-0DF7-4415-9332-F5A6BC493E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549000"/>
            <a:ext cx="8229600" cy="71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HRM SERVICES (CONTINUED) </a:t>
            </a:r>
            <a:br>
              <a:rPr sz="2400"/>
            </a:br>
            <a:r>
              <a:rPr b="0" lang="en-US" sz="2400" spc="-1" strike="noStrike">
                <a:solidFill>
                  <a:srgbClr val="660000"/>
                </a:solidFill>
                <a:latin typeface="Times New Roman"/>
              </a:rPr>
              <a:t>ANNUAL REPORT 2010/11</a:t>
            </a:r>
            <a:endParaRPr b="0" lang="en-US" sz="2400" spc="-1" strike="noStrike">
              <a:solidFill>
                <a:srgbClr val="420000"/>
              </a:solidFill>
              <a:latin typeface="Times New Roman"/>
            </a:endParaRPr>
          </a:p>
        </p:txBody>
      </p:sp>
      <p:graphicFrame>
        <p:nvGraphicFramePr>
          <p:cNvPr id="122" name=""/>
          <p:cNvGraphicFramePr/>
          <p:nvPr/>
        </p:nvGraphicFramePr>
        <p:xfrm>
          <a:off x="324000" y="1413000"/>
          <a:ext cx="8532720" cy="5159160"/>
        </p:xfrm>
        <a:graphic>
          <a:graphicData uri="http://schemas.openxmlformats.org/drawingml/2006/table">
            <a:tbl>
              <a:tblPr/>
              <a:tblGrid>
                <a:gridCol w="1422360"/>
                <a:gridCol w="1422360"/>
                <a:gridCol w="1422360"/>
                <a:gridCol w="1422360"/>
                <a:gridCol w="1422360"/>
                <a:gridCol w="1420920"/>
              </a:tblGrid>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 CONTRAINT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470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taff and Councilors trained in line with WSP</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l Staff and Councilors must be trained according to their Job Descrip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taff are trained accordingly</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60% of councilor train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95% of Staff train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ea typeface="Calibri"/>
                        </a:rPr>
                        <a:t>Limited budge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472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earnership program  develop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ke provisions for </a:t>
                      </a:r>
                      <a:endParaRPr b="0" lang="en-US" sz="1400" spc="-1" strike="noStrike">
                        <a:solidFill>
                          <a:srgbClr val="000000"/>
                        </a:solidFill>
                        <a:latin typeface="Times New Roman"/>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ndatory</a:t>
                      </a:r>
                      <a:endParaRPr b="0" lang="en-US" sz="1400" spc="-1" strike="noStrike">
                        <a:solidFill>
                          <a:srgbClr val="000000"/>
                        </a:solidFill>
                        <a:latin typeface="Times New Roman"/>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oluntary  internship</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4 Finance Intern Employ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imited budget to appoint other intern for another department.</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Limited office sp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225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W.S.P in pla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 implemented WSP</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2011/2012 WSP/ATR submitted to LGSETA on the 30</a:t>
                      </a:r>
                      <a:r>
                        <a:rPr b="0" lang="en-US" sz="1400" spc="-1" strike="noStrike" baseline="30000">
                          <a:solidFill>
                            <a:srgbClr val="000000"/>
                          </a:solidFill>
                          <a:latin typeface="Times New Roman"/>
                          <a:ea typeface="Calibri"/>
                        </a:rPr>
                        <a:t>th</a:t>
                      </a:r>
                      <a:r>
                        <a:rPr b="0" lang="en-US" sz="1400" spc="-1" strike="noStrike">
                          <a:solidFill>
                            <a:srgbClr val="000000"/>
                          </a:solidFill>
                          <a:latin typeface="Times New Roman"/>
                          <a:ea typeface="Calibri"/>
                        </a:rPr>
                        <a:t> June 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Times New Roman"/>
                          <a:ea typeface="Calibri"/>
                        </a:rPr>
                        <a:t>Limited budget limited discretionary, mandatory gra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123" name="Picture 25" descr=""/>
          <p:cNvPicPr/>
          <p:nvPr/>
        </p:nvPicPr>
        <p:blipFill>
          <a:blip r:embed="rId1"/>
          <a:stretch/>
        </p:blipFill>
        <p:spPr>
          <a:xfrm>
            <a:off x="755640" y="620640"/>
            <a:ext cx="1000080" cy="714600"/>
          </a:xfrm>
          <a:prstGeom prst="rect">
            <a:avLst/>
          </a:prstGeom>
          <a:ln w="0">
            <a:noFill/>
          </a:ln>
        </p:spPr>
      </p:pic>
      <p:sp>
        <p:nvSpPr>
          <p:cNvPr id="124"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5EEE-CE53-42DA-85A4-A5CD0E7E61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pic>
        <p:nvPicPr>
          <p:cNvPr id="334" name="Table Placeholder 4" descr=""/>
          <p:cNvPicPr/>
          <p:nvPr/>
        </p:nvPicPr>
        <p:blipFill>
          <a:blip r:embed="rId1"/>
          <a:stretch/>
        </p:blipFill>
        <p:spPr>
          <a:xfrm>
            <a:off x="103320" y="1268280"/>
            <a:ext cx="8937360" cy="3638520"/>
          </a:xfrm>
          <a:prstGeom prst="rect">
            <a:avLst/>
          </a:prstGeom>
          <a:ln w="0">
            <a:noFill/>
          </a:ln>
        </p:spPr>
      </p:pic>
      <p:pic>
        <p:nvPicPr>
          <p:cNvPr id="335" name="Picture 25" descr=""/>
          <p:cNvPicPr/>
          <p:nvPr/>
        </p:nvPicPr>
        <p:blipFill>
          <a:blip r:embed="rId2"/>
          <a:stretch/>
        </p:blipFill>
        <p:spPr>
          <a:xfrm>
            <a:off x="611280" y="549360"/>
            <a:ext cx="1000080" cy="714240"/>
          </a:xfrm>
          <a:prstGeom prst="rect">
            <a:avLst/>
          </a:prstGeom>
          <a:ln w="0">
            <a:noFill/>
          </a:ln>
        </p:spPr>
      </p:pic>
      <p:sp>
        <p:nvSpPr>
          <p:cNvPr id="33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8B0C-0F1D-42E7-9615-B5B9D568180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38" name=""/>
          <p:cNvGraphicFramePr/>
          <p:nvPr/>
        </p:nvGraphicFramePr>
        <p:xfrm>
          <a:off x="179280" y="1341360"/>
          <a:ext cx="8785440" cy="3494160"/>
        </p:xfrm>
        <a:graphic>
          <a:graphicData uri="http://schemas.openxmlformats.org/drawingml/2006/table">
            <a:tbl>
              <a:tblPr/>
              <a:tblGrid>
                <a:gridCol w="1104840"/>
                <a:gridCol w="1847880"/>
                <a:gridCol w="1551240"/>
                <a:gridCol w="885600"/>
                <a:gridCol w="1401840"/>
                <a:gridCol w="1994040"/>
              </a:tblGrid>
              <a:tr h="63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9813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Municipal System Improvement  Gra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363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MSIG amount allocat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R750,000.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R750,000.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i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9367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MSIG expenditure to dat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R750,000.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R750,000.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ea typeface="Times New Roman"/>
                        </a:rPr>
                        <a:t>Nil</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339" name="Picture 25" descr=""/>
          <p:cNvPicPr/>
          <p:nvPr/>
        </p:nvPicPr>
        <p:blipFill>
          <a:blip r:embed="rId1"/>
          <a:stretch/>
        </p:blipFill>
        <p:spPr>
          <a:xfrm>
            <a:off x="611280" y="549360"/>
            <a:ext cx="1000080" cy="714240"/>
          </a:xfrm>
          <a:prstGeom prst="rect">
            <a:avLst/>
          </a:prstGeom>
          <a:ln w="0">
            <a:noFill/>
          </a:ln>
        </p:spPr>
      </p:pic>
      <p:sp>
        <p:nvSpPr>
          <p:cNvPr id="34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8359-845F-4BE7-93CB-4543CD90A6D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404640"/>
            <a:ext cx="8229600" cy="865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42" name=""/>
          <p:cNvGraphicFramePr/>
          <p:nvPr/>
        </p:nvGraphicFramePr>
        <p:xfrm>
          <a:off x="179280" y="1341360"/>
          <a:ext cx="8785440" cy="3672000"/>
        </p:xfrm>
        <a:graphic>
          <a:graphicData uri="http://schemas.openxmlformats.org/drawingml/2006/table">
            <a:tbl>
              <a:tblPr/>
              <a:tblGrid>
                <a:gridCol w="1104840"/>
                <a:gridCol w="1847880"/>
                <a:gridCol w="1551240"/>
                <a:gridCol w="885600"/>
                <a:gridCol w="1401840"/>
                <a:gridCol w="1994040"/>
              </a:tblGrid>
              <a:tr h="681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LANNED INTERVENTION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argets 2010/201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rogress mad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arianc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halleng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trategic interven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9968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Municipal Infrastructure Gra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99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IG amount alloca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R 28, 401, 000.0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R 28,401,000.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NIL</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996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IG expenditure to dat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R 28,401,000.0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R 27,637,079.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R 736,921.0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Times New Roman"/>
                        </a:rPr>
                        <a:t>To accrue the remaining balanc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343" name="Picture 25" descr=""/>
          <p:cNvPicPr/>
          <p:nvPr/>
        </p:nvPicPr>
        <p:blipFill>
          <a:blip r:embed="rId1"/>
          <a:stretch/>
        </p:blipFill>
        <p:spPr>
          <a:xfrm>
            <a:off x="611280" y="549360"/>
            <a:ext cx="1000080" cy="714240"/>
          </a:xfrm>
          <a:prstGeom prst="rect">
            <a:avLst/>
          </a:prstGeom>
          <a:ln w="0">
            <a:noFill/>
          </a:ln>
        </p:spPr>
      </p:pic>
      <p:sp>
        <p:nvSpPr>
          <p:cNvPr id="34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0C90-8026-4D2A-9078-CFE61211898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50920" y="475920"/>
            <a:ext cx="822960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2400" spc="-1" strike="noStrike">
                <a:solidFill>
                  <a:srgbClr val="660000"/>
                </a:solidFill>
                <a:latin typeface="Times New Roman"/>
              </a:rPr>
              <a:t>LED CONT..</a:t>
            </a:r>
            <a:br>
              <a:rPr sz="2400"/>
            </a:br>
            <a:r>
              <a:rPr b="0" lang="en-US" sz="2400" spc="-1" strike="noStrike">
                <a:solidFill>
                  <a:srgbClr val="420000"/>
                </a:solidFill>
                <a:latin typeface="Times New Roman"/>
              </a:rPr>
              <a:t>                             A</a:t>
            </a:r>
            <a:r>
              <a:rPr b="0" lang="en-US" sz="2400" spc="-1" strike="noStrike">
                <a:solidFill>
                  <a:srgbClr val="660000"/>
                </a:solidFill>
                <a:latin typeface="Times New Roman"/>
              </a:rPr>
              <a:t>NNUAL REPORT 2010/11</a:t>
            </a:r>
            <a:endParaRPr b="0" lang="en-US" sz="2400" spc="-1" strike="noStrike">
              <a:solidFill>
                <a:srgbClr val="420000"/>
              </a:solidFill>
              <a:latin typeface="Times New Roman"/>
            </a:endParaRPr>
          </a:p>
        </p:txBody>
      </p:sp>
      <p:graphicFrame>
        <p:nvGraphicFramePr>
          <p:cNvPr id="346" name=""/>
          <p:cNvGraphicFramePr/>
          <p:nvPr/>
        </p:nvGraphicFramePr>
        <p:xfrm>
          <a:off x="358920" y="1413000"/>
          <a:ext cx="8785080" cy="4952880"/>
        </p:xfrm>
        <a:graphic>
          <a:graphicData uri="http://schemas.openxmlformats.org/drawingml/2006/table">
            <a:tbl>
              <a:tblPr/>
              <a:tblGrid>
                <a:gridCol w="1188720"/>
                <a:gridCol w="1764000"/>
                <a:gridCol w="1550880"/>
                <a:gridCol w="885960"/>
                <a:gridCol w="1401480"/>
                <a:gridCol w="1994040"/>
              </a:tblGrid>
              <a:tr h="833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LANNED INTERVENTION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Targets 2010/2011</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ogress made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Varianc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Challenges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Strategic intervention</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750960">
                <a:tc>
                  <a:txBody>
                    <a:bodyPr lIns="9360" rIns="93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udit Opinion</a:t>
                      </a:r>
                      <a:endParaRPr b="0" lang="en-US" sz="1200" spc="-1" strike="noStrike">
                        <a:solidFill>
                          <a:srgbClr val="000000"/>
                        </a:solidFill>
                        <a:latin typeface="Times New Roman"/>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360" rIns="93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360" rIns="93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360" rIns="93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360" rIns="93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360" rIns="93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2650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mplementation of the Audit plan 2009/1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ave the plan developed and implemen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st queries addressed.</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See the attached action plan </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nnexure 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 did not submit substantive evidence based on management respons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 ensure that all Officials understand Section 78 of MFMA and Oversight roles by Councillor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210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ature of Audit opinion received 2009/10</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 have Unqualified report</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isclaime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ack of commitment by other departments. </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icials not reporting for duty </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tendance register not signed </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bsenteeism </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 control of leave </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p management to execute their functions as expected.</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 appoint the following vacant positions on or before 1</a:t>
                      </a:r>
                      <a:r>
                        <a:rPr b="0" lang="en-GB" sz="1200" spc="-1" strike="noStrike" baseline="30000">
                          <a:solidFill>
                            <a:srgbClr val="000000"/>
                          </a:solidFill>
                          <a:latin typeface="Times New Roman"/>
                          <a:ea typeface="Times New Roman"/>
                        </a:rPr>
                        <a:t>st</a:t>
                      </a:r>
                      <a:r>
                        <a:rPr b="0" lang="en-GB" sz="1200" spc="-1" strike="noStrike">
                          <a:solidFill>
                            <a:srgbClr val="000000"/>
                          </a:solidFill>
                          <a:latin typeface="Times New Roman"/>
                          <a:ea typeface="Times New Roman"/>
                        </a:rPr>
                        <a:t> August 2011</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nicipal –Manager</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or Infrastructure</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or Community Servic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pic>
        <p:nvPicPr>
          <p:cNvPr id="347" name="Picture 25" descr=""/>
          <p:cNvPicPr/>
          <p:nvPr/>
        </p:nvPicPr>
        <p:blipFill>
          <a:blip r:embed="rId1"/>
          <a:stretch/>
        </p:blipFill>
        <p:spPr>
          <a:xfrm>
            <a:off x="611280" y="549360"/>
            <a:ext cx="1000080" cy="714240"/>
          </a:xfrm>
          <a:prstGeom prst="rect">
            <a:avLst/>
          </a:prstGeom>
          <a:ln w="0">
            <a:noFill/>
          </a:ln>
        </p:spPr>
      </p:pic>
      <p:sp>
        <p:nvSpPr>
          <p:cNvPr id="34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5FE4-E531-40E7-9BC1-DA2665531E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50920" y="475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0" lang="en-US" sz="4400" spc="-1" strike="noStrike">
                <a:solidFill>
                  <a:srgbClr val="420000"/>
                </a:solidFill>
                <a:latin typeface="Times New Roman"/>
              </a:rPr>
              <a:t>	</a:t>
            </a:r>
            <a:r>
              <a:rPr b="0" lang="en-US" sz="4400" spc="-1" strike="noStrike">
                <a:solidFill>
                  <a:srgbClr val="420000"/>
                </a:solidFill>
                <a:latin typeface="Times New Roman"/>
              </a:rPr>
              <a:t>	</a:t>
            </a:r>
            <a:endParaRPr b="0" lang="en-US" sz="4400" spc="-1" strike="noStrike">
              <a:solidFill>
                <a:srgbClr val="420000"/>
              </a:solidFill>
              <a:latin typeface="Times New Roman"/>
            </a:endParaRPr>
          </a:p>
        </p:txBody>
      </p:sp>
      <p:graphicFrame>
        <p:nvGraphicFramePr>
          <p:cNvPr id="350" name=""/>
          <p:cNvGraphicFramePr/>
          <p:nvPr/>
        </p:nvGraphicFramePr>
        <p:xfrm>
          <a:off x="468360" y="1125360"/>
          <a:ext cx="8316720" cy="5486400"/>
        </p:xfrm>
        <a:graphic>
          <a:graphicData uri="http://schemas.openxmlformats.org/drawingml/2006/table">
            <a:tbl>
              <a:tblPr/>
              <a:tblGrid>
                <a:gridCol w="8316720"/>
              </a:tblGrid>
              <a:tr h="5487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Times New Roman"/>
                        </a:rPr>
                        <a:t>TO GOD BE GLORY</a:t>
                      </a:r>
                      <a:r>
                        <a:rPr b="1" lang="en-ZA"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Times New Roman"/>
                        </a:rPr>
                        <a:t>THANK YOU!!!!!!!</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w="12240">
                      <a:solidFill>
                        <a:srgbClr val="ffffff"/>
                      </a:solidFill>
                    </a:lnB>
                    <a:solidFill>
                      <a:srgbClr val="996600"/>
                    </a:solidFill>
                  </a:tcPr>
                </a:tc>
              </a:tr>
            </a:tbl>
          </a:graphicData>
        </a:graphic>
      </p:graphicFrame>
      <p:pic>
        <p:nvPicPr>
          <p:cNvPr id="351" name="Picture 25" descr=""/>
          <p:cNvPicPr/>
          <p:nvPr/>
        </p:nvPicPr>
        <p:blipFill>
          <a:blip r:embed="rId1"/>
          <a:stretch/>
        </p:blipFill>
        <p:spPr>
          <a:xfrm>
            <a:off x="755640" y="1773360"/>
            <a:ext cx="1000080" cy="714240"/>
          </a:xfrm>
          <a:prstGeom prst="rect">
            <a:avLst/>
          </a:prstGeom>
          <a:ln w="0">
            <a:noFill/>
          </a:ln>
        </p:spPr>
      </p:pic>
      <p:sp>
        <p:nvSpPr>
          <p:cNvPr id="352" name="Slide Number Placeholder 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44F9-C084-426D-B9D1-08D93E60881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734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LABOUR RELATIONS </a:t>
            </a:r>
            <a:br>
              <a:rPr sz="2400"/>
            </a:br>
            <a:r>
              <a:rPr b="0" lang="en-US" sz="2400" spc="-1" strike="noStrike">
                <a:solidFill>
                  <a:srgbClr val="660000"/>
                </a:solidFill>
                <a:latin typeface="Times New Roman"/>
              </a:rPr>
              <a:t>ANNUAL REPORT 2010/11</a:t>
            </a:r>
            <a:endParaRPr b="0" lang="en-US" sz="2400" spc="-1" strike="noStrike">
              <a:solidFill>
                <a:srgbClr val="420000"/>
              </a:solidFill>
              <a:latin typeface="Times New Roman"/>
            </a:endParaRPr>
          </a:p>
        </p:txBody>
      </p:sp>
      <p:graphicFrame>
        <p:nvGraphicFramePr>
          <p:cNvPr id="126" name=""/>
          <p:cNvGraphicFramePr/>
          <p:nvPr/>
        </p:nvGraphicFramePr>
        <p:xfrm>
          <a:off x="108000" y="1341360"/>
          <a:ext cx="8856720" cy="5330880"/>
        </p:xfrm>
        <a:graphic>
          <a:graphicData uri="http://schemas.openxmlformats.org/drawingml/2006/table">
            <a:tbl>
              <a:tblPr/>
              <a:tblGrid>
                <a:gridCol w="874800"/>
                <a:gridCol w="1514160"/>
                <a:gridCol w="1339920"/>
                <a:gridCol w="1747800"/>
                <a:gridCol w="1690920"/>
                <a:gridCol w="1689120"/>
              </a:tblGrid>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PI</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UAL</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RGE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 SUCCESS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S/ CONTRAI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TURE PLAN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05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Labour Relation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Functioning of the Local Labour Forum</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establish Local Labour Forum and  hold monthly meeting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4 Ordinary and 2 special Meetings held on Local Labour Forum and The new Chairperson appoin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ostponement of Meetings due to other commitments from member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1472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OHS Standard in plac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draft OHS Policy drafted and adopted  by the Council, </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lement Risk Assessment Report.</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OHS Policy drafted, Risk Assessment Report drafted</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hange of leadership</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Lack of capacity</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470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mployee wellness program  in plac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lement Employee Wellness  Program drawn.</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he Committee Benchmarked with other Municipalities and The Hospitals to conduct Wellness day for all. Sekhukhune District Local Municipaliti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Training not enough, lack of EWP capacity</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839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mployment Equity Plan In Place</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lement Employment equity plan.</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Employment Equity Report submitted to the Department of Labour.</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Employment Equity Committee . Infrastructural deficiencies.</a:t>
                      </a:r>
                      <a:endParaRPr b="0"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27" name="Picture 25" descr=""/>
          <p:cNvPicPr/>
          <p:nvPr/>
        </p:nvPicPr>
        <p:blipFill>
          <a:blip r:embed="rId1"/>
          <a:stretch/>
        </p:blipFill>
        <p:spPr>
          <a:xfrm>
            <a:off x="684360" y="549360"/>
            <a:ext cx="1000080" cy="714240"/>
          </a:xfrm>
          <a:prstGeom prst="rect">
            <a:avLst/>
          </a:prstGeom>
          <a:ln w="0">
            <a:noFill/>
          </a:ln>
        </p:spPr>
      </p:pic>
      <p:sp>
        <p:nvSpPr>
          <p:cNvPr id="128"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6269-534B-47D7-B973-25C300C47B8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42960"/>
            <a:ext cx="8229600" cy="698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REGISTRY SERVICES</a:t>
            </a:r>
            <a:br>
              <a:rPr sz="2400"/>
            </a:br>
            <a:r>
              <a:rPr b="0" lang="en-US" sz="2400" spc="-1" strike="noStrike">
                <a:solidFill>
                  <a:srgbClr val="660000"/>
                </a:solidFill>
                <a:latin typeface="Times New Roman"/>
              </a:rPr>
              <a:t>ANNUAL REPORT 2010/11</a:t>
            </a:r>
            <a:endParaRPr b="0" lang="en-US" sz="2400" spc="-1" strike="noStrike">
              <a:solidFill>
                <a:srgbClr val="420000"/>
              </a:solidFill>
              <a:latin typeface="Times New Roman"/>
            </a:endParaRPr>
          </a:p>
        </p:txBody>
      </p:sp>
      <p:graphicFrame>
        <p:nvGraphicFramePr>
          <p:cNvPr id="130" name=""/>
          <p:cNvGraphicFramePr/>
          <p:nvPr/>
        </p:nvGraphicFramePr>
        <p:xfrm>
          <a:off x="539640" y="1413000"/>
          <a:ext cx="8172720" cy="5160960"/>
        </p:xfrm>
        <a:graphic>
          <a:graphicData uri="http://schemas.openxmlformats.org/drawingml/2006/table">
            <a:tbl>
              <a:tblPr/>
              <a:tblGrid>
                <a:gridCol w="995400"/>
                <a:gridCol w="1139760"/>
                <a:gridCol w="1262160"/>
                <a:gridCol w="1592280"/>
                <a:gridCol w="1592280"/>
                <a:gridCol w="1590840"/>
              </a:tblGrid>
              <a:tr h="701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S/ CONSTRAINT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TURE PLA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473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ation and Governance Servic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4f4e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stry Services manag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4f4e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ure 1 institutional fax machine &amp; 1 franking machin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4f4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nking machine is procured.</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urement of institutional fax machine is on proces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4f4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n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4f4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4f4e2"/>
                    </a:solidFill>
                  </a:tcPr>
                </a:tc>
              </a:tr>
              <a:tr h="213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a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f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lementation of file pla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afaf1"/>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 files and SV for employees and  councilors records are opened , updated month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 of general records  received are manag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afaf1"/>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afaf1"/>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afaf1"/>
                    </a:solidFill>
                  </a:tcPr>
                </a:tc>
              </a:tr>
              <a:tr h="85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4e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4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e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 files from DLGH are received and properly fil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e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ck of  appropriate Registry faciliti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e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e2"/>
                    </a:solidFill>
                  </a:tcPr>
                </a:tc>
              </a:tr>
            </a:tbl>
          </a:graphicData>
        </a:graphic>
      </p:graphicFrame>
      <p:pic>
        <p:nvPicPr>
          <p:cNvPr id="131" name="Picture 25" descr=""/>
          <p:cNvPicPr/>
          <p:nvPr/>
        </p:nvPicPr>
        <p:blipFill>
          <a:blip r:embed="rId1"/>
          <a:stretch/>
        </p:blipFill>
        <p:spPr>
          <a:xfrm>
            <a:off x="755640" y="549360"/>
            <a:ext cx="785880" cy="714240"/>
          </a:xfrm>
          <a:prstGeom prst="rect">
            <a:avLst/>
          </a:prstGeom>
          <a:ln w="0">
            <a:noFill/>
          </a:ln>
        </p:spPr>
      </p:pic>
      <p:sp>
        <p:nvSpPr>
          <p:cNvPr id="132"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394D-CF07-4102-B323-E77E46EADC0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CUSTOMER CARE SERVICES</a:t>
            </a:r>
            <a:br>
              <a:rPr sz="2400"/>
            </a:br>
            <a:r>
              <a:rPr b="0" lang="en-US" sz="2400" spc="-1" strike="noStrike">
                <a:solidFill>
                  <a:srgbClr val="660000"/>
                </a:solidFill>
                <a:latin typeface="Times New Roman"/>
              </a:rPr>
              <a:t>ANNUAL REPORT 2010/11</a:t>
            </a:r>
            <a:endParaRPr b="0" lang="en-US" sz="2400" spc="-1" strike="noStrike">
              <a:solidFill>
                <a:srgbClr val="420000"/>
              </a:solidFill>
              <a:latin typeface="Times New Roman"/>
            </a:endParaRPr>
          </a:p>
        </p:txBody>
      </p:sp>
      <p:graphicFrame>
        <p:nvGraphicFramePr>
          <p:cNvPr id="134" name=""/>
          <p:cNvGraphicFramePr/>
          <p:nvPr/>
        </p:nvGraphicFramePr>
        <p:xfrm>
          <a:off x="457200" y="1828800"/>
          <a:ext cx="8147160" cy="4307040"/>
        </p:xfrm>
        <a:graphic>
          <a:graphicData uri="http://schemas.openxmlformats.org/drawingml/2006/table">
            <a:tbl>
              <a:tblPr/>
              <a:tblGrid>
                <a:gridCol w="1243080"/>
                <a:gridCol w="1423800"/>
                <a:gridCol w="1455840"/>
                <a:gridCol w="2011320"/>
                <a:gridCol w="2013120"/>
              </a:tblGrid>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 </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P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U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ESS/ SUCCESSE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S/ CONSTRAINT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279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 Municipal Administration and Governance Servic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nicipal service standards  develop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velop municipal service standar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ee departments submitted their service standard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ack of cooperation from other departmen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charter develop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velop draft service charter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 of  service charter develop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ck of cooper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3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rain 60% of staff on customer car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 of staff were trained on customer ca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sufficient budge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3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care in plac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velop customer care plan.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 of customer care plan informed by GDMS compliance uni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sufficient  infrastructure budge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pic>
        <p:nvPicPr>
          <p:cNvPr id="135" name="Picture 25" descr=""/>
          <p:cNvPicPr/>
          <p:nvPr/>
        </p:nvPicPr>
        <p:blipFill>
          <a:blip r:embed="rId1"/>
          <a:stretch/>
        </p:blipFill>
        <p:spPr>
          <a:xfrm>
            <a:off x="785880" y="642960"/>
            <a:ext cx="1000080" cy="714240"/>
          </a:xfrm>
          <a:prstGeom prst="rect">
            <a:avLst/>
          </a:prstGeom>
          <a:ln w="0">
            <a:noFill/>
          </a:ln>
        </p:spPr>
      </p:pic>
      <p:sp>
        <p:nvSpPr>
          <p:cNvPr id="136"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A614-2103-4C32-B881-C8860D23E4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9:17:14Z</dcterms:created>
  <dc:creator>MabuM</dc:creator>
  <dc:description/>
  <dc:language>en-US</dc:language>
  <cp:lastModifiedBy>dilakanep</cp:lastModifiedBy>
  <dcterms:modified xsi:type="dcterms:W3CDTF">2012-02-21T19:57:53Z</dcterms:modified>
  <cp:revision>722</cp:revision>
  <dc:subject/>
  <dc:title>Slide 1</dc:title>
</cp:coreProperties>
</file>